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02271"/>
        <c:axId val="94657388"/>
      </c:barChart>
      <c:catAx>
        <c:axId val="87102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57388"/>
        <c:crosses val="autoZero"/>
        <c:auto val="1"/>
        <c:lblAlgn val="ctr"/>
        <c:lblOffset val="100"/>
        <c:noMultiLvlLbl val="0"/>
      </c:catAx>
      <c:valAx>
        <c:axId val="94657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02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24B-8A54-482F-88F8-636952A3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474-84EF-4C58-A6AB-A8C242D9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CAF-3E59-4095-A405-17E73389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E18-43C6-4107-8EA9-EC5F95F5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349-A609-41DB-8850-0C799B18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614-F89C-4257-998E-2F7A81F2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7C6-A6EE-448F-BDCC-6CBE0C67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7C7-107A-4F00-8DE6-14630D4C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852-3035-4A1C-9A52-EA7F5F3A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76D-3522-4596-ACBE-40498E20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783-0FDE-4BE5-8BB0-FC495620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5FB-5FD2-43FC-9AAA-EC5BF2DB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06EB6-6808-4356-894B-7A3336B643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