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953"/>
        <c:axId val="11397379"/>
      </c:barChart>
      <c:catAx>
        <c:axId val="127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97379"/>
        <c:crosses val="autoZero"/>
        <c:auto val="1"/>
        <c:lblAlgn val="ctr"/>
        <c:lblOffset val="100"/>
        <c:noMultiLvlLbl val="0"/>
      </c:catAx>
      <c:valAx>
        <c:axId val="11397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0DD-278E-43A3-8F86-DB238809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E0C-544D-4359-9BE7-714DB7E9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C03-D8A2-41B0-8F92-4CDAB304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272-74AD-4163-8E42-6E3DFC53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EA5-BE1C-4A07-A9AF-ECC0F92B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2F7-A967-4A5D-BF58-358444CD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5D7-3DE0-4D10-B1D3-1C6ED0BD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797-2217-4548-8F17-AD6F6EF9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EB8-86BF-4053-9E5D-F5A82AE9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591-05FA-497F-A309-D3C2B8E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320-7FD9-43B8-B5ED-99D30926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292-5299-4133-85C4-3BD3EEF4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4DA70-3C92-45DC-B7C9-E52CEC8E70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