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0BD-B7DC-40F2-978E-640782DB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520-4E2B-4D35-91CD-DBF725F9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6AB-0714-4A13-9E6B-42D850A1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8B7-C86D-44F8-B2F4-EB561723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34B-31F2-4659-8E25-66FDDDE0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176-FB2D-42BE-8D95-0E1527E7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2D4-ED87-4F3F-963D-2C99B0F1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EBE-F404-48E6-859F-B29714F8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BF7-A6F6-4831-A1C8-E1C840DB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7AF-7DD7-4CAC-8FCF-982D0E32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159-92F9-452E-8D5F-674E3B73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4F8-9FD8-4666-96E1-810AFB81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AD67-01F2-4140-BE82-026AC81C7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8520" y="665280"/>
            <a:ext cx="8848800" cy="5522040"/>
            <a:chOff x="128520" y="665280"/>
            <a:chExt cx="8848800" cy="5522040"/>
          </a:xfrm>
        </p:grpSpPr>
        <p:sp>
          <p:nvSpPr>
            <p:cNvPr id="42" name=""/>
            <p:cNvSpPr/>
            <p:nvPr/>
          </p:nvSpPr>
          <p:spPr>
            <a:xfrm>
              <a:off x="191880" y="80244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9696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機能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5588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696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テスト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696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プログラ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1624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9966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84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cc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16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ff3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設計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8424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3366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モックアッ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8932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画面遷移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2" idx="2"/>
              <a:endCxn id="43" idx="1"/>
            </p:cNvCxnSpPr>
            <p:nvPr/>
          </p:nvCxnSpPr>
          <p:spPr>
            <a:xfrm rot="5400000">
              <a:off x="432720" y="1681920"/>
              <a:ext cx="923400" cy="395280"/>
            </a:xfrm>
            <a:prstGeom prst="bentConnector4">
              <a:avLst>
                <a:gd name="adj1" fmla="val 33307"/>
                <a:gd name="adj2" fmla="val 1586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>
              <a:stCxn id="43" idx="3"/>
              <a:endCxn id="44" idx="1"/>
            </p:cNvCxnSpPr>
            <p:nvPr/>
          </p:nvCxnSpPr>
          <p:spPr>
            <a:xfrm>
              <a:off x="2496960" y="2340720"/>
              <a:ext cx="3592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3"/>
              <a:endCxn id="47" idx="1"/>
            </p:cNvCxnSpPr>
            <p:nvPr/>
          </p:nvCxnSpPr>
          <p:spPr>
            <a:xfrm>
              <a:off x="465588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47" idx="3"/>
              <a:endCxn id="46" idx="1"/>
            </p:cNvCxnSpPr>
            <p:nvPr/>
          </p:nvCxnSpPr>
          <p:spPr>
            <a:xfrm>
              <a:off x="681660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5" idx="0"/>
              <a:endCxn id="46" idx="2"/>
            </p:cNvCxnSpPr>
            <p:nvPr/>
          </p:nvCxnSpPr>
          <p:spPr>
            <a:xfrm flipV="1">
              <a:off x="8076960" y="2648520"/>
              <a:ext cx="36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8" idx="3"/>
              <a:endCxn id="49" idx="1"/>
            </p:cNvCxnSpPr>
            <p:nvPr/>
          </p:nvCxnSpPr>
          <p:spPr>
            <a:xfrm>
              <a:off x="4584600" y="3708720"/>
              <a:ext cx="432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43" idx="2"/>
              <a:endCxn id="50" idx="1"/>
            </p:cNvCxnSpPr>
            <p:nvPr/>
          </p:nvCxnSpPr>
          <p:spPr>
            <a:xfrm flipH="1" rot="16200000">
              <a:off x="1044360" y="3201120"/>
              <a:ext cx="2293200" cy="118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endCxn id="48" idx="1"/>
            </p:cNvCxnSpPr>
            <p:nvPr/>
          </p:nvCxnSpPr>
          <p:spPr>
            <a:xfrm>
              <a:off x="2135520" y="2717640"/>
              <a:ext cx="649080" cy="991440"/>
            </a:xfrm>
            <a:prstGeom prst="bentConnector3">
              <a:avLst>
                <a:gd name="adj1" fmla="val 3213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0" idx="3"/>
              <a:endCxn id="51" idx="1"/>
            </p:cNvCxnSpPr>
            <p:nvPr/>
          </p:nvCxnSpPr>
          <p:spPr>
            <a:xfrm>
              <a:off x="4584600" y="4941360"/>
              <a:ext cx="5050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128520" y="665280"/>
              <a:ext cx="6904080" cy="52689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880" y="5727600"/>
              <a:ext cx="1224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00"/>
                  </a:solidFill>
                  <a:latin typeface="Arial"/>
                  <a:ea typeface="HG創英角ｺﾞｼｯｸUB"/>
                </a:rPr>
                <a:t>仕様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V="1">
            <a:off x="594036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72000" y="2637000"/>
            <a:ext cx="50472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6:48:27Z</dcterms:created>
  <dc:creator>ohtake</dc:creator>
  <dc:description/>
  <dc:language>en-US</dc:language>
  <cp:lastModifiedBy>ymurakami</cp:lastModifiedBy>
  <dcterms:modified xsi:type="dcterms:W3CDTF">2007-07-13T04:42:16Z</dcterms:modified>
  <cp:revision>6</cp:revision>
  <dc:subject/>
  <dc:title>スライド 1</dc:title>
</cp:coreProperties>
</file>