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3393-6B97-446F-A07B-7FA8D25A60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インタフェースをやめて、クラスにする。コンテナをやめ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HashM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ノテーション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ic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ファイル生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3EA3-7C5E-4B60-875E-F9717FF2C359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85C2-0A6C-4360-B23D-A26ADC5C0C7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S2Container PHP5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への移植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66680" y="1066680"/>
            <a:ext cx="1608480" cy="5486040"/>
            <a:chOff x="1966680" y="1066680"/>
            <a:chExt cx="1608480" cy="5486040"/>
          </a:xfrm>
        </p:grpSpPr>
        <p:grpSp>
          <p:nvGrpSpPr>
            <p:cNvPr id="125" name=""/>
            <p:cNvGrpSpPr/>
            <p:nvPr/>
          </p:nvGrpSpPr>
          <p:grpSpPr>
            <a:xfrm>
              <a:off x="1966680" y="1066680"/>
              <a:ext cx="1608480" cy="5224680"/>
              <a:chOff x="1966680" y="1066680"/>
              <a:chExt cx="1608480" cy="52246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66680" y="1066680"/>
                <a:ext cx="1608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nnot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698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69388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990720"/>
            <a:ext cx="457200" cy="5568480"/>
            <a:chOff x="304920" y="990720"/>
            <a:chExt cx="457200" cy="5568480"/>
          </a:xfrm>
        </p:grpSpPr>
        <p:grpSp>
          <p:nvGrpSpPr>
            <p:cNvPr id="130" name=""/>
            <p:cNvGrpSpPr/>
            <p:nvPr/>
          </p:nvGrpSpPr>
          <p:grpSpPr>
            <a:xfrm>
              <a:off x="304920" y="990720"/>
              <a:ext cx="457200" cy="617040"/>
              <a:chOff x="304920" y="990720"/>
              <a:chExt cx="457200" cy="617040"/>
            </a:xfrm>
          </p:grpSpPr>
          <p:sp>
            <p:nvSpPr>
              <p:cNvPr id="131" name=""/>
              <p:cNvSpPr/>
              <p:nvPr/>
            </p:nvSpPr>
            <p:spPr>
              <a:xfrm>
                <a:off x="414360" y="990720"/>
                <a:ext cx="228600" cy="20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920" y="1265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3520" y="119628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30492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53316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33520" y="1608120"/>
              <a:ext cx="0" cy="47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695240"/>
              <a:ext cx="152280" cy="486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17800" y="1066680"/>
            <a:ext cx="2454480" cy="5486040"/>
            <a:chOff x="3817800" y="1066680"/>
            <a:chExt cx="2454480" cy="5486040"/>
          </a:xfrm>
        </p:grpSpPr>
        <p:grpSp>
          <p:nvGrpSpPr>
            <p:cNvPr id="139" name=""/>
            <p:cNvGrpSpPr/>
            <p:nvPr/>
          </p:nvGrpSpPr>
          <p:grpSpPr>
            <a:xfrm>
              <a:off x="3817800" y="1066680"/>
              <a:ext cx="2454480" cy="5224680"/>
              <a:chOff x="3817800" y="1066680"/>
              <a:chExt cx="2454480" cy="5224680"/>
            </a:xfrm>
          </p:grpSpPr>
          <p:sp>
            <p:nvSpPr>
              <p:cNvPr id="140" name=""/>
              <p:cNvSpPr/>
              <p:nvPr/>
            </p:nvSpPr>
            <p:spPr>
              <a:xfrm>
                <a:off x="3817800" y="1066680"/>
                <a:ext cx="2454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Arial"/>
                  </a:rPr>
                  <a:t>AnnotationR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450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968720" y="1675800"/>
              <a:ext cx="15264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368120" y="1066680"/>
            <a:ext cx="1692360" cy="5486040"/>
            <a:chOff x="7368120" y="1066680"/>
            <a:chExt cx="1692360" cy="5486040"/>
          </a:xfrm>
        </p:grpSpPr>
        <p:grpSp>
          <p:nvGrpSpPr>
            <p:cNvPr id="144" name=""/>
            <p:cNvGrpSpPr/>
            <p:nvPr/>
          </p:nvGrpSpPr>
          <p:grpSpPr>
            <a:xfrm>
              <a:off x="7368120" y="1066680"/>
              <a:ext cx="1692360" cy="5224680"/>
              <a:chOff x="7368120" y="1066680"/>
              <a:chExt cx="1692360" cy="5224680"/>
            </a:xfrm>
          </p:grpSpPr>
          <p:sp>
            <p:nvSpPr>
              <p:cNvPr id="145" name=""/>
              <p:cNvSpPr/>
              <p:nvPr/>
            </p:nvSpPr>
            <p:spPr>
              <a:xfrm>
                <a:off x="7368120" y="1066680"/>
                <a:ext cx="169236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2Contain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21376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813924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09480" y="1523880"/>
            <a:ext cx="7543800" cy="686880"/>
            <a:chOff x="609480" y="1523880"/>
            <a:chExt cx="7543800" cy="686880"/>
          </a:xfrm>
        </p:grpSpPr>
        <p:sp>
          <p:nvSpPr>
            <p:cNvPr id="149" name=""/>
            <p:cNvSpPr/>
            <p:nvPr/>
          </p:nvSpPr>
          <p:spPr>
            <a:xfrm>
              <a:off x="2895480" y="205740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240" y="1523880"/>
              <a:ext cx="18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190512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50320" y="16574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委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6280" y="1844640"/>
              <a:ext cx="253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hasComponentD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1480" y="220968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5181480"/>
            <a:ext cx="2971800" cy="899280"/>
            <a:chOff x="5181480" y="5181480"/>
            <a:chExt cx="2971800" cy="899280"/>
          </a:xfrm>
        </p:grpSpPr>
        <p:sp>
          <p:nvSpPr>
            <p:cNvPr id="156" name=""/>
            <p:cNvSpPr/>
            <p:nvPr/>
          </p:nvSpPr>
          <p:spPr>
            <a:xfrm>
              <a:off x="6145200" y="5181480"/>
              <a:ext cx="101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554652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43280" y="571464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1480" y="608004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9120" y="5788080"/>
            <a:ext cx="4343400" cy="536400"/>
            <a:chOff x="609120" y="5788080"/>
            <a:chExt cx="4343400" cy="536400"/>
          </a:xfrm>
        </p:grpSpPr>
        <p:sp>
          <p:nvSpPr>
            <p:cNvPr id="161" name=""/>
            <p:cNvSpPr/>
            <p:nvPr/>
          </p:nvSpPr>
          <p:spPr>
            <a:xfrm flipH="1">
              <a:off x="609120" y="632448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95120" y="624816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9400" y="5788080"/>
              <a:ext cx="1829520" cy="3661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</a:rPr>
                <a:t>アノテーションを返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9120" y="2286000"/>
            <a:ext cx="7544160" cy="915120"/>
            <a:chOff x="609120" y="2286000"/>
            <a:chExt cx="7544160" cy="915120"/>
          </a:xfrm>
        </p:grpSpPr>
        <p:grpSp>
          <p:nvGrpSpPr>
            <p:cNvPr id="165" name=""/>
            <p:cNvGrpSpPr/>
            <p:nvPr/>
          </p:nvGrpSpPr>
          <p:grpSpPr>
            <a:xfrm>
              <a:off x="609120" y="2759040"/>
              <a:ext cx="4343400" cy="442080"/>
              <a:chOff x="609120" y="2759040"/>
              <a:chExt cx="4343400" cy="44208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895120" y="27590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609120" y="29876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94200" y="2835000"/>
                <a:ext cx="1098000" cy="3661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Arial"/>
                  </a:rPr>
                  <a:t>読み込み済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5105520" y="2667240"/>
              <a:ext cx="3047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4160" y="228600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105520" y="2895480"/>
            <a:ext cx="2879640" cy="2362320"/>
            <a:chOff x="5105520" y="2895480"/>
            <a:chExt cx="2879640" cy="2362320"/>
          </a:xfrm>
        </p:grpSpPr>
        <p:sp>
          <p:nvSpPr>
            <p:cNvPr id="172" name=""/>
            <p:cNvSpPr/>
            <p:nvPr/>
          </p:nvSpPr>
          <p:spPr>
            <a:xfrm>
              <a:off x="5105520" y="2895480"/>
              <a:ext cx="228600" cy="2362320"/>
            </a:xfrm>
            <a:custGeom>
              <a:avLst/>
              <a:gdLst/>
              <a:ahLst/>
              <a:rect l="l" t="t" r="r" b="b"/>
              <a:pathLst>
                <a:path w="336" h="912">
                  <a:moveTo>
                    <a:pt x="0" y="0"/>
                  </a:moveTo>
                  <a:lnTo>
                    <a:pt x="336" y="0"/>
                  </a:lnTo>
                  <a:lnTo>
                    <a:pt x="336" y="912"/>
                  </a:lnTo>
                  <a:lnTo>
                    <a:pt x="48" y="91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18880" y="3124080"/>
              <a:ext cx="19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PHPDoc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読み込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9360" y="4299120"/>
              <a:ext cx="218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MockIntercep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　作成・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7200" y="3733920"/>
              <a:ext cx="248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ComponentDef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作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アノテ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easar2 2.4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に追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3581280"/>
            <a:ext cx="6019920" cy="1600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の今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内でも、まだ一歩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コミットしてる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独り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2PHP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限らず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補完計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1.0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リリー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(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2.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系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UnitTest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関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英語ドキュ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すなあそび・・・アノテーションと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WE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レームワーク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D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追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876800" y="5762520"/>
            <a:ext cx="732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わ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730160"/>
            <a:ext cx="8229600" cy="36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/N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www15.plala.or.jp/klov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茨城県在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普段は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NIX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システムの管理業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h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e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ときどき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312408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657600"/>
            <a:ext cx="6095880" cy="1828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59092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s2php5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何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版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ファイルはほぼ同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タグは一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式ではなくて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設定ファイル形式でも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必要な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が使い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D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コンテナは他にもあります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209680"/>
            <a:ext cx="7315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 ver 2.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ほぼ同じ事ができ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 to PH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界隈でアノテーションが騒が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( EJB3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Unit4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、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320" y="1347840"/>
            <a:ext cx="414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パッケー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3352680"/>
            <a:ext cx="8762760" cy="3206880"/>
            <a:chOff x="304920" y="3352680"/>
            <a:chExt cx="8762760" cy="3206880"/>
          </a:xfrm>
        </p:grpSpPr>
        <p:sp>
          <p:nvSpPr>
            <p:cNvPr id="111" name=""/>
            <p:cNvSpPr/>
            <p:nvPr/>
          </p:nvSpPr>
          <p:spPr>
            <a:xfrm>
              <a:off x="304920" y="3352680"/>
              <a:ext cx="8762760" cy="3200400"/>
            </a:xfrm>
            <a:prstGeom prst="wedgeRoundRectCallout">
              <a:avLst>
                <a:gd name="adj1" fmla="val -34745"/>
                <a:gd name="adj2" fmla="val -66069"/>
                <a:gd name="adj3" fmla="val 16667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1680" y="3905280"/>
              <a:ext cx="76680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s ( 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   ( String annotationType,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isAnnotationPresent ( String annotationTyp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080" y="3359160"/>
              <a:ext cx="333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Annotations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クラ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241800" y="1881360"/>
            <a:ext cx="28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見てないことにする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447920"/>
            <a:ext cx="5181480" cy="2438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@annotation Hoge(‘val1’=&gt;’10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                               ’msg’=&gt;’Hello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495680"/>
            <a:ext cx="5181480" cy="16765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face Hoge extends Annota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val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ms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8320" y="2666880"/>
            <a:ext cx="4309200" cy="1628640"/>
            <a:chOff x="4648320" y="2666880"/>
            <a:chExt cx="4309200" cy="1628640"/>
          </a:xfrm>
        </p:grpSpPr>
        <p:sp>
          <p:nvSpPr>
            <p:cNvPr id="119" name=""/>
            <p:cNvSpPr/>
            <p:nvPr/>
          </p:nvSpPr>
          <p:spPr>
            <a:xfrm>
              <a:off x="4648320" y="2666880"/>
              <a:ext cx="976320" cy="1628640"/>
            </a:xfrm>
            <a:prstGeom prst="rightArrow">
              <a:avLst>
                <a:gd name="adj1" fmla="val 46398"/>
                <a:gd name="adj2" fmla="val 44389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5960" y="3176280"/>
              <a:ext cx="3481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MockInterceptor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19320"/>
            <a:ext cx="8305920" cy="5181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annotation id” class=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o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mock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mock” class=“MockInterceptor”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val1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10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msg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Hello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klove</dc:creator>
  <dc:description/>
  <dc:language>en-US</dc:language>
  <cp:lastModifiedBy>羽生　章洋</cp:lastModifiedBy>
  <dcterms:modified xsi:type="dcterms:W3CDTF">2005-07-14T02:57:34Z</dcterms:modified>
  <cp:revision>690</cp:revision>
  <dc:subject/>
  <dc:title>S2PHP5 ～S2Container PHP5への移植～</dc:title>
</cp:coreProperties>
</file>