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857A-4028-414C-B4F7-3AC6264439F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E60C-6E7D-44AA-979F-E5368A3D51C6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Kvasir/Sora 3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Pluggabl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なアプリケーションコンテ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田　健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プラグインで拡張可能なアプリケーション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ろいろなプラグインを組み合わせてオリジナ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を簡単に構築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使ってみて、次にプラグインを書いてみ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るべく早くリリースできるよう頑張ります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m( )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横田　健彦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kirni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かりにくいハンドルですいません、「スキールニル」と読み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kvasir.skirnir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構築し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住まい：東京都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北の方で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特徴：北欧神話フリーク、阪神ファ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仲間募集中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クヴァシル・そら）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ブレットベースのコンテンツ管理システ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ちょっぴ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（管理画面はかな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スタマイズの自由度高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ログなどのアプリケーションも追加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機の名前、北欧神話の神様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ora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息子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覚え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独自仕様が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ップグレードしづら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次世代版（バージョン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kvasir.sandbox.seasa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アプリケーションプラットフォー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プリケーションとしてサーブレットコンテナ上で動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ライクなプラグインアーキテクチャを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追加が容易、ブログアプリ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覚え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作成手順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プラグイン作成手順とかなり類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のアップグレードも簡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ベ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の開発効率向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宅サイトを構築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だったら作ってなかった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^^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より使いやすいシステムに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誰でも覚えやすく使いやすいシステムを目指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わよくばプラグインを作ってもらえたら助かる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プラグインアーキテクチャに感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っぽ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あったら楽しそ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定義ファイル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lugin.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8076960" cy="4343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plugin id="net.seasar.kvasir.plugin.blo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ame="%plugin.name“ version=“1.0.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vider-name="%plugin.provider-nam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ass="net.seasar.kvasir.plugin.blog.BlogPlugi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ntainer config="plugin.dicon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"conf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“blog-1.0.0.jar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import plugin="net.seasar.kvasir.plugin.page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基本的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定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505320"/>
            <a:ext cx="36576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プラグイン用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の定義ファイ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114800"/>
            <a:ext cx="36576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利用ライブラリ・リソー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5105520"/>
            <a:ext cx="1752480" cy="83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依存プラグイ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だ動きません…。プラグインできてません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近日中に基本部を完成させ今後ブログプラグイン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を開発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4076640" cy="331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38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イト構築例（雰囲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5410080"/>
            <a:ext cx="7619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Kvasir/S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4191120"/>
            <a:ext cx="190512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91120"/>
            <a:ext cx="190476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191120"/>
            <a:ext cx="19051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ユーザ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4191120"/>
            <a:ext cx="190476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0280" y="1523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7080" y="19810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23120" y="24382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会員制掲示板も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18960" y="289548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イトの見た目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ンプレートで記述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0600" y="10666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ず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インスト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56560" y="34290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3300"/>
                </a:solidFill>
                <a:latin typeface="Arial"/>
              </a:rPr>
              <a:t>プラグインの追加で自由に拡張可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使ってみてフィードバックを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を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系プラグインのデザインを考えて下さい、アイコン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チュートリアルドキュメント書い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、お願いは尽きませんが、まずは興味を持っ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3T07:44:21Z</dcterms:modified>
  <cp:revision>575</cp:revision>
  <dc:subject/>
  <dc:title>くーす本の内容を先取り！ DI時代の業務システム構築技法 ～業務分析からシステム設計・開発までを一気に突っ走る～</dc:title>
</cp:coreProperties>
</file>