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F72D-C902-4156-80C4-F855A6B584F8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4CA3-0E3C-434A-98AA-ED75DFC5D9DC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ダイコン白書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基本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リジナル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24000" y="1125360"/>
            <a:ext cx="6624720" cy="32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ngine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Car(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,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engineSize =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turbo =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Engine is " + engineSize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cc, " + "turbo:" + turb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4510080"/>
            <a:ext cx="662472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Engin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0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rue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/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50920" y="3500280"/>
            <a:ext cx="1728720" cy="8240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値がコンストラクタ引数に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35640" y="6149880"/>
            <a:ext cx="30988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論理値も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5645160"/>
            <a:ext cx="2879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数値は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1052640"/>
            <a:ext cx="600552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Stereo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List lis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rayLis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dd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.add(bg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3573360"/>
            <a:ext cx="705636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Stereo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BGM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pitz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3" idx="1"/>
            <a:endCxn id="132" idx="1"/>
          </p:cNvCxnSpPr>
          <p:nvPr/>
        </p:nvCxnSpPr>
        <p:spPr>
          <a:xfrm flipH="1" rot="10800000">
            <a:off x="1763280" y="2168640"/>
            <a:ext cx="1008720" cy="2846520"/>
          </a:xfrm>
          <a:prstGeom prst="bentConnector3">
            <a:avLst>
              <a:gd name="adj1" fmla="val -787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324000" y="191628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5877000"/>
            <a:ext cx="3843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の自動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自動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書かずとも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判断して自動初期化をできるかぎり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をコンテナが走査して、プロパティを自動設定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パティの型がインターフェイスであるこ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の引数型をしらべ、引数を自動設定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引数型がすべてインターフェイスであるこ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番引数の多いコンストラクタであるこ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40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プロパティ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6084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utoChangerCar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6" idx="1"/>
            <a:endCxn id="145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コンストラクタ引数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ライフサイク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/constructor/method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駆使して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終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#destroy(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って、全登録コンポーネントの終了化メソッドの呼び出しを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タグによる設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ードの場合のみ、終了化メソッドが有効になる。→ 後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05080" y="1916280"/>
            <a:ext cx="734364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GoBack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omeBack(Date back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impleDateFormat fm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impleDateForma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HH:mm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“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I have come back at 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+ fmt.format(bac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13080" y="4275000"/>
            <a:ext cx="6335640" cy="224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omeBack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java.util.Date(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40924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new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オブジェクト生成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53" idx="1"/>
            <a:endCxn id="152" idx="1"/>
          </p:cNvCxnSpPr>
          <p:nvPr/>
        </p:nvCxnSpPr>
        <p:spPr>
          <a:xfrm rot="10800000">
            <a:off x="1404360" y="2996640"/>
            <a:ext cx="1008720" cy="2404080"/>
          </a:xfrm>
          <a:prstGeom prst="bentConnector3">
            <a:avLst>
              <a:gd name="adj1" fmla="val 12267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250920" y="443700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itMetho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同様に、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49760" y="1125360"/>
            <a:ext cx="319896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destro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1341360"/>
            <a:ext cx="525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アプリケーション終了時に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2Container#destro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のエレメントボデ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stem.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sel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自コンポーネン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他、コンポーネント名が使用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2276640"/>
            <a:ext cx="8353440" cy="24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&gt;#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"Enjoy shopping!"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#self.comeBack(new java.util.Date()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47640" y="5661000"/>
            <a:ext cx="7201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トネント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.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メソッド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(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引数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)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メソッド実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131640" y="3933720"/>
            <a:ext cx="79236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059280" y="1844640"/>
            <a:ext cx="22334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3280" y="1484280"/>
            <a:ext cx="3095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ut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stem.out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4869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self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自コンポーネント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生成を誰が行う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クライアントで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保持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終了化メソッ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826920" y="4437000"/>
          <a:ext cx="7848720" cy="2073240"/>
        </p:xfrm>
        <a:graphic>
          <a:graphicData uri="http://schemas.openxmlformats.org/drawingml/2006/table">
            <a:tbl>
              <a:tblPr/>
              <a:tblGrid>
                <a:gridCol w="2089440"/>
                <a:gridCol w="2879640"/>
                <a:gridCol w="2879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モー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生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保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終了化メソッド有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で生成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属性が任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45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ependency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おこなうコンテナの一種。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とも言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rtin Fowl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提案に応じて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、略してダイコンといっ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最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開発メソッド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もこの方向になるといわれ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でコンポーネントを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コンストラクタを実行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structor inject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行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機能が使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でコンポーネント保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コンポーネントを保持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終了化メソッドが動作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初期化のみ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tter/method inje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よる初期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に登録されているコンポーネントを利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自動設定が動作。これが最も有用なポイ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1341360"/>
            <a:ext cx="7682040" cy="25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Facto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UnderConstructionC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jectDependency(ca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4492800"/>
            <a:ext cx="7651800" cy="18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instanc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oute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class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tutorial.org.seasar.console.UnderConstructionCar"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engine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"SOHC-V12 Twin turbo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80000" y="3141720"/>
            <a:ext cx="3960720" cy="10674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型のほか、名前でも設定を検索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59640" y="2478240"/>
            <a:ext cx="2233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イアントで生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00720" y="4724280"/>
            <a:ext cx="1800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は任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生成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同様だが、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や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sel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は使えない。→ ここでは生成処理のみ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ー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クトリメソッド（オブジェクト）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コンポーネント生成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1523880"/>
            <a:ext cx="7200720" cy="21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ed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tutorial.org.seasar.console.PaintedCa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red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24360" y="411480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tter/method injection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が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4360" y="472428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ingleton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れば終了化メソッドも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ooMany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インターフェイスを実装した複数の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じ名前で登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取得時に例外発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解決には名前空間を利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5280" y="306864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  <a:ea typeface="ＭＳ ゴシック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"tutorial.org.seasar.console.Hello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"tutorial.org.seasar.console.Goodby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486900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ＭＳ ゴシック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="tutorial.org.seasar.console.HelloCa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lass="tutorial.org.seasar.console.Anoth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24720" y="350028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どちらも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24720" y="522936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同じ名前で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つ登録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名前空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が大きくなったと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肥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名前が衝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分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clud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amesp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ごとにコンポーネント名前空間を設定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前空間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.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o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接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ユースケース毎の分割を想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24000" y="2060640"/>
            <a:ext cx="8424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car.xml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other.xml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空間を利用した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95640" y="1197000"/>
            <a:ext cx="6624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1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car.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2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other.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3429000"/>
            <a:ext cx="842472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"red"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5084640"/>
            <a:ext cx="8424720" cy="15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othe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"yellow"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03640" y="4941720"/>
            <a:ext cx="22338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の名前空間を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32360" y="3141720"/>
            <a:ext cx="3960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clud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ユースケース毎に分割され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をマージ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5280" y="836640"/>
            <a:ext cx="403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名前空間を指定してコンポーネント取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類似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pert One-onOne J2EE Design and Developm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（邦題：実践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デザイン）著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od Jhons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Boss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次期バージ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ベースとなってい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ve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pest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作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oward Lewis Shi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karta Comm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ico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中心である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ブートストラップを別途必要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既存フレームワーク等に組み込みで使うことを想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ポーネント登録・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ード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ユーザーも直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による登録・設定可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イアントへのコンポーネント提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現在は同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/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形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でのサービス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Remoti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を通して行う予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89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 Old Java Ob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「平凡な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オブジェクト」の意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ache Avalon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ように、コンテナに載せるために特別なインターフェイスを実装する必要な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インターフェイ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クライアントがコンポーネント取得する際に、コンポーネントが実装するインターフェイスをキーとしてコンテナ上を検索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公開するメソッドは、インターフェイスで定義する。クライアントはインターフェイスを介してメソッド呼び出しを行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コンストラク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デフォルトコンストラクタがなくても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コンストラクタがなくても、インスタンス生成さえできれば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プロパテ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Beans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仕様のプロパティでステート管理を行う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便利な機能が利用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873760"/>
            <a:ext cx="8642160" cy="3988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何らかの手段でインスタンス生成できれば、どんな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av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でも良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取得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92360" y="1484280"/>
            <a:ext cx="7272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Car.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5373720"/>
            <a:ext cx="4895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Car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ar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first car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3932280"/>
            <a:ext cx="7272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Hello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365360" y="4724280"/>
            <a:ext cx="40644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00720" y="2924280"/>
            <a:ext cx="82224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197000"/>
            <a:ext cx="6985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インターフェイス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参照のみで、コンポーネントの実際の型に縛られてい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48360" y="3357720"/>
            <a:ext cx="3313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するコンポーネントを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580536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98" idx="1"/>
            <a:endCxn id="100" idx="1"/>
          </p:cNvCxnSpPr>
          <p:nvPr/>
        </p:nvCxnSpPr>
        <p:spPr>
          <a:xfrm flipH="1" flipV="1" rot="10800000">
            <a:off x="1692000" y="2528640"/>
            <a:ext cx="2160" cy="1945440"/>
          </a:xfrm>
          <a:prstGeom prst="bentConnector3">
            <a:avLst>
              <a:gd name="adj1" fmla="val -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250920" y="364500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設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5533920"/>
            <a:ext cx="1441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による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1916280"/>
            <a:ext cx="676908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4795920"/>
            <a:ext cx="676944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tutorial.org.seasar.console.HelloCa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076720" y="3355920"/>
            <a:ext cx="204624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4221000"/>
            <a:ext cx="2449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1125360"/>
            <a:ext cx="72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キャストの際の例外の危険があるために、基本的にはインターフェイス型で取得するほうが推奨される。しかし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既存の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オブジェクトがインターフェイスを実装していない場合に、特に有効であ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の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設定に従い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tt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引数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thod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呼び出し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リジナ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24000" y="1268280"/>
            <a:ext cx="6797880" cy="30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aintedCar implements Car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tring color =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blue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odyColor(String color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color = 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body color is " + col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4581360"/>
            <a:ext cx="676908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red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19" idx="1"/>
            <a:endCxn id="118" idx="1"/>
          </p:cNvCxnSpPr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250920" y="350028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プロパティ値が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1052640"/>
            <a:ext cx="54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生成時に、プロパティが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5950080"/>
            <a:ext cx="44845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文字列はダブルクォートで囲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4-06-06T11:59:56Z</dcterms:modified>
  <cp:revision>113</cp:revision>
  <dc:subject/>
  <dc:title>スライド 1</dc:title>
</cp:coreProperties>
</file>