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19075"/>
        <c:axId val="76426938"/>
      </c:barChart>
      <c:catAx>
        <c:axId val="69919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26938"/>
        <c:crosses val="autoZero"/>
        <c:auto val="1"/>
        <c:lblAlgn val="ctr"/>
        <c:lblOffset val="100"/>
        <c:noMultiLvlLbl val="0"/>
      </c:catAx>
      <c:valAx>
        <c:axId val="76426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19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791-B20D-470B-87CD-59DBB68C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59E-C80E-486A-9F7A-9D35DF82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FA7-A230-42BD-859E-FA4E9D4A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7C0-99C5-4CD1-A8E8-4D8E02D2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036-82FF-449A-B4AF-DE472551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ADB-514D-49B0-BFF3-CEF8E74E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151-65CA-41F5-85C0-92B4E8F0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6A1-D036-43BA-93C9-F98188F5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4D0-5551-4BA8-B94D-EBC0C721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1F8-5A44-4FAF-A975-B35ECC8B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3D9-EF39-40CD-A9BD-E25FA3E8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6BF-FCD7-494F-A401-36BC5B63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87C83-3B5E-48B7-BF25-17F22BE1F5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