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48980"/>
        <c:axId val="86811652"/>
      </c:barChart>
      <c:catAx>
        <c:axId val="79148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11652"/>
        <c:crosses val="autoZero"/>
        <c:auto val="1"/>
        <c:lblAlgn val="ctr"/>
        <c:lblOffset val="100"/>
        <c:noMultiLvlLbl val="0"/>
      </c:catAx>
      <c:valAx>
        <c:axId val="86811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8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0E0-EB18-4BA1-AF8E-CA14E1B2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734-47FA-41B0-88D7-AFFB3D1F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81B-0E0B-4CFE-83F1-4861683A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F6B-F129-45DF-A3B6-678607B0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A89-1057-4702-BED6-8AD08237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380-F21B-413F-B74C-8FE92E48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59B-EE11-42AF-A13E-C03B095A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130-FFA2-4169-96C6-A0E3F392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69A-149B-4F76-B1DF-C569501C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BB3-77E4-4D04-9390-072C5434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EAB-83CC-4705-9F58-7BDBC98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73A-8377-4B73-B275-C8A5068A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E9FE0-25DB-400F-B018-B8C5BFC7B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