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88499"/>
        <c:axId val="82023773"/>
      </c:barChart>
      <c:catAx>
        <c:axId val="76488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23773"/>
        <c:crosses val="autoZero"/>
        <c:auto val="1"/>
        <c:lblAlgn val="ctr"/>
        <c:lblOffset val="100"/>
        <c:noMultiLvlLbl val="0"/>
      </c:catAx>
      <c:valAx>
        <c:axId val="82023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88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444-70E7-4663-A129-14D535256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EC9-1F46-4D1D-907F-2BE83486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89E-6DD9-4951-A2B8-F06821EE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E067-3A2F-4621-AC86-5AF7956F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447-2A0B-49C7-B2D9-38E0A805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E1D-E381-40B7-84A1-016882C8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331-DFA2-4B64-8EC3-A67025F7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4D3-CC36-41FD-ABEE-4294945A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E0F-3FA0-44D4-96E4-005609D6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8E4-BA45-4FCB-824B-5D573B78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5FE-ED6F-44CD-8412-A4BBC4B3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97D-DBFC-4A9B-AB80-216D6DEB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AF8D1-9F5C-4D6A-B7D6-1BD09983F4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