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73854"/>
        <c:axId val="81741068"/>
      </c:barChart>
      <c:catAx>
        <c:axId val="87773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41068"/>
        <c:crosses val="autoZero"/>
        <c:auto val="1"/>
        <c:lblAlgn val="ctr"/>
        <c:lblOffset val="100"/>
        <c:noMultiLvlLbl val="0"/>
      </c:catAx>
      <c:valAx>
        <c:axId val="817410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73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7A7-5921-46E1-9DD8-246DB023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2BA-A136-4FF4-8E83-F9A674CC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9329-2AC3-495F-B9C4-773E779C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A8C-E005-478C-B7EA-FC285FAA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EF5-7B22-4708-B722-7C7DBC9F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279-C66E-481E-A3F5-D3A74BFB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CBD-F11A-4A0B-9A06-DBC18E3E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8838-EE4D-4804-8A10-66C6FC7D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857-38ED-4D85-9C9C-7E5E017B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1567-D429-4D34-8E59-1060DE2B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8EC-9E3E-4C03-A777-12EA1416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934-5276-4C5A-A9F2-0CF01372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912C3-E34B-49E3-9E34-F7B8FCF738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