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63477"/>
        <c:axId val="64620050"/>
      </c:barChart>
      <c:catAx>
        <c:axId val="45263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20050"/>
        <c:crosses val="autoZero"/>
        <c:auto val="1"/>
        <c:lblAlgn val="ctr"/>
        <c:lblOffset val="100"/>
        <c:noMultiLvlLbl val="0"/>
      </c:catAx>
      <c:valAx>
        <c:axId val="64620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3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588-5F14-4E86-88EB-4E4F1799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738-5D11-4A76-8AF2-237137C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606-1B27-473E-B61C-7050E6F8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670-3059-4405-B037-4825F881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4FD-1195-4A34-80B1-AC73F3B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7DB-C231-4BDF-B5C6-C6EE02C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053-B125-450A-A670-0CFF303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F7E-2FEE-4039-AC4D-811E1BD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B9D-1A63-4161-99AE-BA44F99E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56F-C093-4000-B695-DEEBD9A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E4D-3F56-4E3A-9ED0-B22CE1A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E25-F5BF-4B0B-82CC-F2B45BD4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BD1B0-3A63-4100-B97E-8BDC2016D3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