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991083"/>
        <c:axId val="66445778"/>
      </c:barChart>
      <c:catAx>
        <c:axId val="909910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45778"/>
        <c:crosses val="autoZero"/>
        <c:auto val="1"/>
        <c:lblAlgn val="ctr"/>
        <c:lblOffset val="100"/>
        <c:noMultiLvlLbl val="0"/>
      </c:catAx>
      <c:valAx>
        <c:axId val="664457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910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2C64-E71B-457A-AC9A-86970F947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F9E3-EFC2-4066-A493-8EDE9ED1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8B24-2888-4022-A0A0-E28777D7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301B-EC6F-412E-BCCF-5082FD3AE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7273-4980-49A0-A1EB-0AFB850EE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3217-3481-46AF-9466-4EFDA5299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1EB2-932C-4B69-BFC3-01F3317F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F588-4FCE-423E-83C4-731B962B1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15F0-D05E-4CD7-A104-7A67F66BE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B60B-8820-4F29-8230-602478D6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8DC4-98BA-4EE5-859A-785CB3A4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80AE-ED52-47AB-8D3C-270E2E4E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B3FD7F-1CD0-471D-BCA6-C15A1368C1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