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52700"/>
        <c:axId val="72972664"/>
      </c:barChart>
      <c:catAx>
        <c:axId val="98352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72664"/>
        <c:crosses val="autoZero"/>
        <c:auto val="1"/>
        <c:lblAlgn val="ctr"/>
        <c:lblOffset val="100"/>
        <c:noMultiLvlLbl val="0"/>
      </c:catAx>
      <c:valAx>
        <c:axId val="72972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52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4E3-855B-4B87-90EB-2A693226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76B-4762-4577-891D-0AE38F93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F18-24EC-4B19-88D2-88084626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169-351D-4282-8264-13CAC6E1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A36-9F30-4357-917C-2C825EFD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C52-9D6E-48D1-8E11-4AA9A74A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B60-1454-4B19-BDE1-B458E165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E66-5942-443B-A571-BB589122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A89-B482-445E-B2CC-7BC743C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E5A-6956-4411-A0CE-D00C14F4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256-DC71-4286-88A7-EBAD918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BBA-2727-4B2F-B7E3-329444C5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4573B-5130-4BF8-B2BC-B48770CEC0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