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65256"/>
        <c:axId val="56405734"/>
      </c:barChart>
      <c:catAx>
        <c:axId val="27865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5734"/>
        <c:crosses val="autoZero"/>
        <c:auto val="1"/>
        <c:lblAlgn val="ctr"/>
        <c:lblOffset val="100"/>
        <c:noMultiLvlLbl val="0"/>
      </c:catAx>
      <c:valAx>
        <c:axId val="56405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5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958-AC29-4946-84B7-6843B95C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E7E-8640-4F2E-86B0-8F78FB41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340-EFF2-448B-97EB-5C322A76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83B-4884-4122-B963-094A0D42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A33-7C1B-4CD1-9EF8-1F22605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390-67BC-4AE1-A8A5-65A00D0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03B-1341-4684-8AAB-ECB62AB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026-564F-450C-8ACA-AAE406AA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14D-13B8-4A9B-9B57-181D0C75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B2F-7C39-4415-8A13-EDFCABA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7F0-8242-4A34-BAFD-27BCCC5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7F6-1AB1-41EA-80D8-E51B392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B3772-10E6-4F6E-B90C-DD5FE3C29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