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68556"/>
        <c:axId val="14174013"/>
      </c:barChart>
      <c:catAx>
        <c:axId val="14268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4013"/>
        <c:crosses val="autoZero"/>
        <c:auto val="1"/>
        <c:lblAlgn val="ctr"/>
        <c:lblOffset val="100"/>
        <c:noMultiLvlLbl val="0"/>
      </c:catAx>
      <c:valAx>
        <c:axId val="14174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68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0FE-A13E-4F92-A5A4-919F0801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BB6-AF1F-4CC2-9AAE-F5F05E2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F8F-3BDC-4F7E-85ED-8B9C2A67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1EA-FE7F-48F3-9874-46062B7B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EDD-7BC7-4F33-8A3A-2DC60B56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125-C7CC-4BDD-A966-B904225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CB8-0874-486A-9ABA-801DD61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12D-5FCE-43E9-9720-90434835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4B4-5ACB-4D96-BEE0-419AD5A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979-3344-40AD-AF1A-F162B62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D16-4889-4125-8BC0-08A5155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5E7-B3D3-417C-978C-4F6E774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1FFF8-11D0-4C8B-AA86-412D93823E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