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202568"/>
        <c:axId val="21092489"/>
      </c:barChart>
      <c:catAx>
        <c:axId val="352025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092489"/>
        <c:crosses val="autoZero"/>
        <c:auto val="1"/>
        <c:lblAlgn val="ctr"/>
        <c:lblOffset val="100"/>
        <c:noMultiLvlLbl val="0"/>
      </c:catAx>
      <c:valAx>
        <c:axId val="210924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025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6869-B5CA-4036-91EE-A554949B9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E7D9-B6D5-4710-BAE3-09033CFC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D976-CC64-4A5B-95C0-5E01B943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90B0-DCB5-4E3A-BFB7-7C731306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F35B-861A-414E-B38B-D3E03F4C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F522-564C-4DA0-B31D-781B5132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F881-FD34-4BD3-B459-F94DA450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AFA5-1B6B-40F7-8E23-2BFD1220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327E-EC1E-404E-BC04-8CE47F89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76D6-EFF5-457E-B009-4119B57D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9265-9963-4A40-AB92-9A359BDF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20B0-C89F-46A9-97E8-D06F4849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15AC2-44CC-4F16-8B92-43B180F2B9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