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7718"/>
        <c:axId val="2630024"/>
      </c:barChart>
      <c:catAx>
        <c:axId val="14077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0024"/>
        <c:crosses val="autoZero"/>
        <c:auto val="1"/>
        <c:lblAlgn val="ctr"/>
        <c:lblOffset val="100"/>
        <c:noMultiLvlLbl val="0"/>
      </c:catAx>
      <c:valAx>
        <c:axId val="2630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7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ECA-CEC5-4C75-A0A6-47814B2A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8CA-E483-4169-9B44-4AF98E5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CBD-3085-44ED-A913-E21CFBE8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33F-5C5E-467E-BCF0-2768059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726-6CCF-415D-A807-1CA570F4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6E4-4D66-43DE-80DA-6B13805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24A-5771-4ED5-8075-DAF152EC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A83-44E2-4E99-BD0E-E38280B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E6F-F8F5-4E72-8041-27C35F9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318-B484-4188-A2C9-A57C131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4D4-0682-45F6-91D5-5AA3B80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E94-652C-431D-A645-3CB7C52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00CC4-CE81-4BEE-AEE1-FBFE6ACA3D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