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C28-EE01-41AE-9482-D3FCE7B5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B48-359A-4EB6-90A2-DF31AD07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ACB7F-6C63-4548-BC50-A6B9B61B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76260-8190-4A30-BA30-C7F544DE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AE94D-6DBC-4304-9113-A55C1E40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9D298-0A97-4493-892D-E4880B04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FC8F9-9F70-456A-91A3-A098DF21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9FA3F-30D2-4A48-BD40-E1235B04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EE48A-C9B6-4305-826D-E2EA0416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AD9A6-3B58-46CF-9F69-E86B0CDE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DC642-FF2A-41A4-8782-3EA2ECC9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22A9A1-5824-4983-B25E-488AA351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B7A-2DE7-4658-BD84-82552A46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8011EF-4DEA-4CB5-8A56-545C17EB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5CEE97-5B68-419B-8365-C2762851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B2F6CE-4F52-4200-940D-6A8A6F37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AF6C45-ECB5-43E3-9D38-0A78868F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20C096-413C-4CCE-BB8C-D0E36E0B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B0763F-28ED-403B-AE41-952B01A5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119D74-3475-44C8-9CDF-A403F4D0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94F1F4-911D-411F-A5A1-DE678CD0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C1785E-8323-4E5F-A73D-9F75AC6B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C932E5-795B-4942-A0D4-0596083C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B19-DE8C-4C4B-8BE2-5934AF8C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B55465-DC38-4501-8586-5FBC3845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F0C4F-291C-4270-B3E3-CF260D2C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B5335-60F3-40D5-A4FB-F6635614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408D0-7A3C-4760-BB2F-B46ABA0F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5BA09-08BB-4CBB-B613-17D960FB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AE00D-1844-440A-9828-E5D6B95A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2817C-AE8B-4C27-940E-4730B724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1954B-091A-4497-8F74-4024FDF8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350A2-6CEC-4B1F-915A-AC75B548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4097C-45EA-4373-BF86-77C0B0CF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27A1-5B7D-4C22-93DC-66936694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44171-6881-47B1-84FC-8B3A404B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B5218-CAC1-4B62-B1C4-EBCBF0C0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36341-4894-48A4-B157-957B83AC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DD5C7-F66B-4DA3-B275-AF3D65D2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78F59-FCE1-4DFC-A312-B84C7812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A46573-8911-4332-8359-3C4668D6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8FCBA-2757-4424-9A60-B0B48FFC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255ED-CFEF-48DA-81C1-B61D4276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DA6DE-F618-4C63-B49D-B6CF12F0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B4173-0DFF-4446-97AA-B04447F0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89D5-F332-4AF6-9E8F-6A166F6D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845A3-0EAB-4422-9AF9-052B3573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5BE7A-0F75-45A0-8939-C29C2A46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7EEBB-12C9-4C6B-AB70-3FEBC49E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48090-F515-4FBE-B02C-0FF3E582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A2724-ECFD-4251-9092-15636A8B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722C-6BBE-471F-8F32-00D0FB6E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B1C7-C340-4C69-BBFE-85887280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80D3-9662-4FCE-BFBF-89072C41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2C37-ADFC-4C1D-9925-1A90BC60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FFF8-5498-494C-A79A-EFB01158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E1A-E4EF-4B83-9D9B-CC94B45F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B7F7-A397-4793-B701-0D2DE28F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CAD7-B84F-4749-B413-A9BB7EA4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818D-0D35-47CC-8017-FFD163EE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DE99-B93E-4677-B7CB-F54A6279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4AC5-5C9C-434D-A927-2B35A615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AB12-A450-4916-BFD6-B15B8C1A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FA49-0679-4AE7-90B3-B7EEB295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D5827-25C8-407D-9255-101D8A10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B75F-E25E-46F8-B0A7-D0BDB51F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563A-663B-424C-B3C1-6ADDCB68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025-475E-44F0-864F-7D28320A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BF02-1E47-4948-8EFE-2B3A62B8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2DFE-21F0-4FC5-8E70-68348C8F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69408-B3DF-4D69-BB51-53F8BFC5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B3479-DB94-488E-8948-2418171D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40290-74CE-4546-A715-F274FB6B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81E2C-DAF8-4006-B4C1-EAD1ACB4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74668-E2C5-4773-9EEA-227662E3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053F4-DEAD-4538-8523-F7F6C098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5D51A-CDCD-4B8A-BC11-40F92C07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34870-1DA5-4EB6-8324-2B9E8CD7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707-54FA-413B-B961-8D48C180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08996-3967-4E3E-B58D-EBF57B5C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C6AA4-9980-42E0-8843-D882E4D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EEFA0-32D5-45F0-B6D5-5A403BB6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F026-BF0C-4C4D-9C20-5E232DED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A2F2E-F0D5-45CC-8435-E8A7E81F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FF6B8-E3BB-4F3D-9CF5-4B046AF8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B4B5C-CE73-4E89-875D-B64D0CF2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F150-646F-44B6-B63B-8CFB7EC5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ED623-98BE-45B9-8599-50E4015F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E37895-5D2A-4886-9EF9-E6A62DDD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B3B-4387-4880-8D64-AE5C14F4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24CAC7-719E-4DA1-9C6B-C0478073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31E3AE-1F81-41ED-9515-AABE33DB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C9677-12DF-4526-B9A2-DD4132CA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A862E-B587-40BD-AF7A-0F8D6A94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5A909-4178-4B14-805D-F77BCDE5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7B4BA-C813-4E6A-BD8A-24C0D619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BD70B-3218-4ADD-8C96-DD1B7B8D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590CA-2D7F-4A3C-958A-3D6224ED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DFA37-71EF-4500-8265-2470511E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0B20C-FAB5-4B3C-BC8D-C40B17EB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1B0-3728-4F3F-9A74-0F25DF53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2AFA6-33EF-4D11-B116-4B30DCCA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D4149-4CF1-4A59-AB8A-F353B347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ED2AE-53A9-4C8A-8607-EB945536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B6E7F-7DE6-4CA6-9617-89ACAE30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A8DA3-08C8-4EDE-98A8-437B4E17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053A1-8696-4848-BC4C-FD220EF0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5BBF-5607-44E7-82D2-503E5162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C5972-45B2-45B7-989B-28B721B8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2C6D0-8FF1-4388-8FD0-07062645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6C88E-5F05-4EF7-B22F-D5BEBCB9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04F-E694-4489-B4D1-934CDA68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89B7A-2F4D-4E1C-90F9-0B32BA25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517CC-196C-42FE-805E-AE12AE88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77FF2-9893-4F92-9BC5-22AF73AD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DEEFF-87A5-4073-A403-03793BB2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8CFD1-29F0-4A03-8FDB-0AB5B92A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BF198-0979-4638-A469-36039768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FEE17-E7EF-43A9-8695-333E21FC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566E7-8B72-452B-8B13-32D27C82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FA920-41DE-40CC-B637-CB3129BF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1453D-E473-400C-8A50-DC676CF6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56F-F301-4494-9512-C54531B5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40DF0-CF8A-44B8-B759-DA61D32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A5E7E-57C9-45E4-9CE5-32BFDEAB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CB18B-919B-43B9-82AC-225F0FC6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C9912-7153-4BE8-A6AF-1566A64D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EDA81-7D65-42F9-AB7E-D81DC610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99FB5-01A5-4E86-9E0B-8BE3949F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CC71F-577B-4BA0-982A-26E04551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73626-940A-4562-ACB0-EB8B1D4C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759EF-FA74-4126-8788-69B36784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50627-BEF1-4CB4-928E-75B810C0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B56-5C05-499C-9BA0-B53530A2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B63FB-D107-4CC5-A0A9-77606D3D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BA3AF-D822-4E4F-88A5-BDF9E535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BEFCA-1AE5-46A6-8B4F-94C3F02A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48DBA-B2C9-4066-9717-E0579E1C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C8BB5-75BF-49AC-BAF6-09F16763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AE51F-8AC0-4278-9309-6F025026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6E4D4-D9F5-448C-B193-8B647388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FAF62-5462-4AF7-B96D-78F2A835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8A7D9-E982-4301-B42E-BD0F9988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226BF-4282-4E4A-AC43-DF93AED7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6179-2A46-450D-8B8C-C80F1EB21EB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A3DD-8770-4527-A503-FFCC0E54A2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EBB1-5BAB-4CB2-B834-489648A05E3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BAB7-701C-44F5-91A6-F0B545F8A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B25A-7F63-4C4D-BF7E-D7D5EBA8C24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15E7-0AAF-4814-AB36-36C1339F059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006E-D1F8-4602-97F8-2E3EF4163D8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331B-ADEF-472C-A2A0-EAAEFC5962C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FEC2-D415-404F-B54A-23F999F770E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F010-0AFC-4A43-8D45-5B38358222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D639-D75D-4D96-A616-87E6266961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8CAD-DAB1-48C9-BDC8-8CF11477D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EB8D-C195-459D-94B4-D8CBA8EC16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49AA-41F3-4AF8-8B77-AB8A02729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1255-26AD-4407-BA38-7BC8F3A9009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CFFD-8614-433E-A5B7-F215EEA26C7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A6ED-C9D5-4FB5-8512-D582549D92D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FCCE-FCC2-4EA0-AB02-E42D5A3BC0F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1045-5E7A-4721-92F7-7A61497123D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3048-BE24-4D0F-A025-30B74D4A4C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498C-5FB1-4FB4-8C85-ACE4C83BA5A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58DA-F95E-4053-86BF-CF337073343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711C-1945-44A0-8ED7-9042D027811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294F-6BD4-4D0E-B69B-7E86F6C2E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2EE-6861-443E-B9CC-D41979C649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ED58B-287A-4CC2-86F6-3A48D08EE8DB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DEE6E-654A-4D1A-BC64-2EB81369E5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A1DCA8C-E00E-44E7-A99B-40EB4DAE16BE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3F13-AF74-4DEB-8A57-645C20608447}" type="slidenum">
              <a:t>3</a:t>
            </a:fld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082AE-0B0E-48B7-A093-48C77BDB49B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53722D7-0571-428F-893C-8593F2F48086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A3DFB-3ECC-4E32-A496-093BF14F52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AA2274E-762E-40F5-A949-B9E1FB408754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E98CD-E515-4CE5-A751-B7140A04B90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CB32CF6-6C3C-4EEC-8CD5-C1490D9C4AB8}" type="datetime1">
              <a:rPr lang="en-US"/>
              <a:t>07/28/26</a:t>
            </a:fld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