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0504E-36A4-4760-8734-03D36BB43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044A8-F6EC-4B6F-B74C-282802227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F76F9-7C66-4850-AEDD-8B8C5AC8E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114EA-33E7-4FB5-84AC-D4DFB7A2B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B0C5B-AEEE-45F5-ACA9-95352FAB4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A971C-5C55-4175-AD35-4E39BD56D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848FA-9DD3-4878-A0D6-1F071894E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4D3D0-9A77-49A3-9D37-353AA4A9E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A6CEB-3945-4392-9ED6-02B94166F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330AD-3FFA-4660-AADC-9A8AA211F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699AE-F1C6-4FB2-8ABE-9E41F56E1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94F1D-8D79-452F-A7E3-F8E62E216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9DB71-02B2-496E-82F9-7FC5114FF90C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44964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10656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34920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Vertic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Horizont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uble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965680 w 7197480"/>
              <a:gd name="textAreaRight" fmla="*/ 4231800 w 7197480"/>
              <a:gd name="textAreaTop" fmla="*/ 1482840 h 3598560"/>
              <a:gd name="textAreaBottom" fmla="*/ 21157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5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8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16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2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32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148920 h 35985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21:57Z</dcterms:created>
  <dc:creator>tb121644</dc:creator>
  <dc:description/>
  <dc:language>en-US</dc:language>
  <cp:lastModifiedBy>tb121644</cp:lastModifiedBy>
  <dcterms:modified xsi:type="dcterms:W3CDTF">2005-05-25T11:22:14Z</dcterms:modified>
  <cp:revision>1</cp:revision>
  <dc:subject/>
  <dc:title>Slide 1</dc:title>
</cp:coreProperties>
</file>