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607370"/>
        <c:axId val="32564611"/>
      </c:barChart>
      <c:catAx>
        <c:axId val="936073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564611"/>
        <c:crosses val="autoZero"/>
        <c:auto val="1"/>
        <c:lblAlgn val="ctr"/>
        <c:lblOffset val="100"/>
        <c:noMultiLvlLbl val="0"/>
      </c:catAx>
      <c:valAx>
        <c:axId val="325646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6073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3B48-9486-414C-9D20-ED5E169F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BC19-03D1-467B-8520-9C5FC9AC0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5098-9C62-4893-9555-95867A3B5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048F-7C02-4D3C-BBC8-D98C370AB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5A54-647E-46EF-87CC-DE9CFC0E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3550-47DC-4991-96B2-E437DC52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883-71C4-42C8-B2BD-7334A73C7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6095-867D-4768-A340-A37DBDD8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324F-A475-4978-A45F-4AE12844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3FCA-9841-4D14-9D7F-CCF66B05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BEB6-1E18-4FD8-BDC8-DD21EE0F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303-8BE6-46A1-B870-41358CA2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55B37-908F-4FB6-B4BD-76893310E1D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