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66B0-54C1-4864-8496-B90C3D0BA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3B9F-EA45-497C-8108-2B044D0D9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665E-95D0-449E-BECF-C350835D5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3F0D-E15D-4A4A-8D44-45CCBDBC3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2242-3457-4097-8088-D08223C8F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E0F5-AE64-4145-8704-38DF7ED08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8CCC-763F-4D0C-ACC1-1B861EB23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75EA-DDF7-4C55-8D7C-FBF97076F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9A46-D632-43FE-9BB6-4025255D6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E8F8-C98E-42F1-AF0E-7EA17581E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9A0D-DB22-4A5C-BBC2-9A7AB35E1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24FB-2A5D-45B3-A77F-DF7135389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74B5B-5206-42A9-8EC9-574B8E2E9A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フロー制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1480" y="1341360"/>
            <a:ext cx="122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使用中およびログ採取時は、バッファへ格納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フルになると、最古のデータから上書きされ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で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の中身を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すべて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クロ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）へ送信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データをすべてリングバッファとして保存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661000"/>
            <a:ext cx="3744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コマンド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ync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、同期されるのは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マクロ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通信間のみ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から大量にパケットが送られてき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きは、データの取りこぼしが発生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1T13:09:57Z</dcterms:modified>
  <cp:revision>157</cp:revision>
  <dc:subject/>
  <dc:title>DDEのしくみ</dc:title>
</cp:coreProperties>
</file>