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420D-699A-4DDB-A40C-8AD79F506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E9D4-4CA5-493B-AA86-2C01EFE32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23A8-7C18-4397-80F2-784275B19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5DB2-8DF1-4CB1-A33A-38E2690C4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039E-A0F2-41AA-BF4D-CF5360AA4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76D4-B39A-4C46-B0CA-23013FA16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BA3E-29B2-4FEB-BA5A-BDE7CD8C7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6F17-FF3D-4AFF-97F8-487CC692B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571A-331D-442B-80A8-271C24A14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A046-D454-442B-84FE-C68534E3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687B-3514-4707-A8F4-AAFB495A7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D4EF-2F11-432D-9BB1-19BC8F86B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FF9A9-9ADA-479A-8FDB-4FD0F905A2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疑似端末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6836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1341360"/>
            <a:ext cx="12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p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9564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t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32000" y="1341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1964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1557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0072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08360" y="836640"/>
            <a:ext cx="1008000" cy="576360"/>
          </a:xfrm>
          <a:prstGeom prst="wedgeRoundRectCallout">
            <a:avLst>
              <a:gd name="adj1" fmla="val -43384"/>
              <a:gd name="adj2" fmla="val 706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pty(3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で疑似端末を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0920" y="2565360"/>
            <a:ext cx="669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549360"/>
            <a:ext cx="0" cy="590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105264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9640" y="227664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79640" y="263700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カーネル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2997360"/>
            <a:ext cx="1152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スター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mas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67280" y="2997360"/>
            <a:ext cx="115236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スレーブ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sla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4221000"/>
            <a:ext cx="115236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端末ライ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ィシプリ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N_T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0364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35280" y="3357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716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43280" y="692280"/>
            <a:ext cx="3457440" cy="433080"/>
          </a:xfrm>
          <a:custGeom>
            <a:avLst/>
            <a:gdLst/>
            <a:ahLst/>
            <a:rect l="l" t="t" r="r" b="b"/>
            <a:pathLst>
              <a:path w="2178" h="273">
                <a:moveTo>
                  <a:pt x="91" y="273"/>
                </a:moveTo>
                <a:cubicBezTo>
                  <a:pt x="45" y="182"/>
                  <a:pt x="0" y="91"/>
                  <a:pt x="136" y="46"/>
                </a:cubicBezTo>
                <a:cubicBezTo>
                  <a:pt x="272" y="1"/>
                  <a:pt x="606" y="0"/>
                  <a:pt x="908" y="0"/>
                </a:cubicBezTo>
                <a:cubicBezTo>
                  <a:pt x="1210" y="0"/>
                  <a:pt x="1739" y="1"/>
                  <a:pt x="1951" y="46"/>
                </a:cubicBezTo>
                <a:cubicBezTo>
                  <a:pt x="2163" y="91"/>
                  <a:pt x="2170" y="182"/>
                  <a:pt x="2178" y="2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43640" y="260280"/>
            <a:ext cx="1152720" cy="576360"/>
          </a:xfrm>
          <a:prstGeom prst="wedgeRoundRectCallout">
            <a:avLst>
              <a:gd name="adj1" fmla="val -73689"/>
              <a:gd name="adj2" fmla="val 4531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子プロセスとして起動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80000" y="1844640"/>
            <a:ext cx="792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nt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80000" y="2276640"/>
            <a:ext cx="792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e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200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200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2708280"/>
            <a:ext cx="792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1200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51640" y="4005360"/>
            <a:ext cx="252072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 c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19640" y="4508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2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80000" y="3357720"/>
            <a:ext cx="2521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1640" y="1557360"/>
            <a:ext cx="144720" cy="28728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003280" y="1484280"/>
            <a:ext cx="863640" cy="3603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1200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1200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1844640"/>
            <a:ext cx="792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an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93080" y="2276640"/>
            <a:ext cx="7920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1341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2472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2472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2472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2708280"/>
            <a:ext cx="79200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2472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2472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6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5734080"/>
            <a:ext cx="1368360" cy="214200"/>
          </a:xfrm>
          <a:prstGeom prst="leftRightArrow">
            <a:avLst>
              <a:gd name="adj1" fmla="val 50000"/>
              <a:gd name="adj2" fmla="val 127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67280" y="5661000"/>
            <a:ext cx="1152360" cy="214200"/>
          </a:xfrm>
          <a:prstGeom prst="leftRightArrow">
            <a:avLst>
              <a:gd name="adj1" fmla="val 50000"/>
              <a:gd name="adj2" fmla="val 1070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9-07T11:23:16Z</dcterms:modified>
  <cp:revision>412</cp:revision>
  <dc:subject/>
  <dc:title>DDEのしくみ</dc:title>
</cp:coreProperties>
</file>