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F67E-9472-47E3-A4EB-387CE13F5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3BB1-677C-4B30-9593-A1F154128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0081-C9FA-40A6-A6D8-39C67F336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036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352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036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352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83E4-0C75-4BA2-B8E4-F061CC142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AF70-8C82-49AB-A017-30B97B77F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8DF4-3CD4-492B-8682-943AF045A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A008-2A78-4725-B2E4-FB4F16B78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4AFF-5845-4D92-8429-58938ED76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31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0677-5017-4FD9-91C6-9B96DB6E7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8A71-4103-40C6-A2D9-12BEF7EB6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4A1C-6865-4E5F-8DD6-08CA94179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EE22-BF00-4005-B48A-331136798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8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51040"/>
            <a:ext cx="28972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746D0-6A44-4FD4-B071-F4964C6349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ログインシーケン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68360" y="1203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76720" y="833400"/>
            <a:ext cx="10080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2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268360" y="16318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346040"/>
            <a:ext cx="2305080" cy="214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-1.99-OpenSSH_4.3p2 Debian-9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1274760"/>
            <a:ext cx="1440000" cy="357120"/>
          </a:xfrm>
          <a:prstGeom prst="wedgeRoundRectCallout">
            <a:avLst>
              <a:gd name="adj1" fmla="val 80652"/>
              <a:gd name="adj2" fmla="val 15398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ージョン情報交換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268360" y="1989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71640" y="1703520"/>
            <a:ext cx="2305080" cy="2142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-2.0-TTSSH/2.46 Win32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268360" y="2346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60720" y="2060640"/>
            <a:ext cx="15098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268360" y="26319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1917720"/>
            <a:ext cx="1440000" cy="428760"/>
          </a:xfrm>
          <a:prstGeom prst="wedgeRoundRectCallout">
            <a:avLst>
              <a:gd name="adj1" fmla="val 80652"/>
              <a:gd name="adj2" fmla="val 10237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キー交換開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2268360" y="3000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00360" y="270360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0920" y="2786040"/>
            <a:ext cx="1439640" cy="428760"/>
          </a:xfrm>
          <a:prstGeom prst="wedgeRoundRectCallout">
            <a:avLst>
              <a:gd name="adj1" fmla="val 70726"/>
              <a:gd name="adj2" fmla="val 12867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DH(Diffie-Hellman)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鍵の生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2268360" y="3429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700360" y="314316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GRO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00360" y="350028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268360" y="3786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00360" y="385776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RE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2268360" y="41562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052720" y="3000240"/>
            <a:ext cx="144360" cy="1227240"/>
          </a:xfrm>
          <a:custGeom>
            <a:avLst/>
            <a:gdLst>
              <a:gd name="textAreaLeft" fmla="*/ 92160 w 144360"/>
              <a:gd name="textAreaRight" fmla="*/ 144360 w 144360"/>
              <a:gd name="textAreaTop" fmla="*/ 31680 h 1227240"/>
              <a:gd name="textAreaBottom" fmla="*/ 1195560 h 1227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771640" y="437040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NEWKE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2268360" y="4656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2268360" y="5013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060720" y="2417760"/>
            <a:ext cx="15098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771640" y="472752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NEWKE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8000" y="4727520"/>
            <a:ext cx="1439640" cy="428760"/>
          </a:xfrm>
          <a:prstGeom prst="wedgeRoundRectCallout">
            <a:avLst>
              <a:gd name="adj1" fmla="val 99504"/>
              <a:gd name="adj2" fmla="val -56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鍵生成終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24360" y="5227560"/>
            <a:ext cx="289080" cy="1297080"/>
          </a:xfrm>
          <a:prstGeom prst="downArrow">
            <a:avLst>
              <a:gd name="adj1" fmla="val 50000"/>
              <a:gd name="adj2" fmla="val 11217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84720" y="5299200"/>
            <a:ext cx="2519640" cy="725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これ以降はパケットが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鍵（共通鍵）で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されるため、パケットキャプチ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不可とな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5584680"/>
            <a:ext cx="1440000" cy="439920"/>
          </a:xfrm>
          <a:prstGeom prst="wedgeRoundRectCallout">
            <a:avLst>
              <a:gd name="adj1" fmla="val 94541"/>
              <a:gd name="adj2" fmla="val -4779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認証開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771640" y="529920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SERVICE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2268360" y="55846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771640" y="565632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SERVICE_ACCEP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268360" y="59529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981080" y="5227560"/>
            <a:ext cx="41036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50920" y="3786120"/>
            <a:ext cx="1439640" cy="441360"/>
          </a:xfrm>
          <a:prstGeom prst="wedgeRoundRectCallout">
            <a:avLst>
              <a:gd name="adj1" fmla="val 90023"/>
              <a:gd name="adj2" fmla="val 2941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known_hosts”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チェッ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ログインシーケンス（続き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68360" y="1197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2268360" y="155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690480"/>
            <a:ext cx="1440000" cy="441360"/>
          </a:xfrm>
          <a:prstGeom prst="wedgeRoundRectCallout">
            <a:avLst>
              <a:gd name="adj1" fmla="val 80097"/>
              <a:gd name="adj2" fmla="val 657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リストの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メソッ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627280" y="905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627280" y="12682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USERAUTH_FAIL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00360" y="17002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68360" y="1986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1628640"/>
            <a:ext cx="1440000" cy="428760"/>
          </a:xfrm>
          <a:prstGeom prst="wedgeRoundRectCallout">
            <a:avLst>
              <a:gd name="adj1" fmla="val 80097"/>
              <a:gd name="adj2" fmla="val 32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名とパスワードを送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700360" y="21286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268360" y="24145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4000" y="2200320"/>
            <a:ext cx="1439640" cy="368280"/>
          </a:xfrm>
          <a:prstGeom prst="wedgeRoundRectCallout">
            <a:avLst>
              <a:gd name="adj1" fmla="val 81754"/>
              <a:gd name="adj2" fmla="val 242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成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700360" y="25653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O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268360" y="28512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2637000"/>
            <a:ext cx="1440000" cy="357120"/>
          </a:xfrm>
          <a:prstGeom prst="wedgeRoundRectCallout">
            <a:avLst>
              <a:gd name="adj1" fmla="val 81754"/>
              <a:gd name="adj2" fmla="val 242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セッション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ssion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340000" y="2924280"/>
            <a:ext cx="30956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OPEN_CONFI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268360" y="32083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700360" y="39988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268360" y="4284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5280" y="3998880"/>
            <a:ext cx="1440000" cy="357120"/>
          </a:xfrm>
          <a:prstGeom prst="wedgeRoundRectCallout">
            <a:avLst>
              <a:gd name="adj1" fmla="val 77893"/>
              <a:gd name="adj2" fmla="val 2532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シェルリクエス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ty-req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700360" y="43560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2268360" y="4654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771640" y="4726080"/>
            <a:ext cx="2449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68360" y="50115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5280" y="4726080"/>
            <a:ext cx="1440000" cy="357120"/>
          </a:xfrm>
          <a:prstGeom prst="wedgeRoundRectCallout">
            <a:avLst>
              <a:gd name="adj1" fmla="val 77893"/>
              <a:gd name="adj2" fmla="val 2532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ell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2268360" y="54403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484360" y="5154480"/>
            <a:ext cx="280836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WINDOW_ADJU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796000" y="4940280"/>
            <a:ext cx="1800360" cy="571680"/>
          </a:xfrm>
          <a:prstGeom prst="wedgeRoundRectCallout">
            <a:avLst>
              <a:gd name="adj1" fmla="val -68342"/>
              <a:gd name="adj2" fmla="val 3928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ウィンドウサイズを送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00360" y="55119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2268360" y="5797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700360" y="59403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2268360" y="623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724360" y="5797440"/>
            <a:ext cx="1800360" cy="511200"/>
          </a:xfrm>
          <a:prstGeom prst="wedgeRoundRectCallout">
            <a:avLst>
              <a:gd name="adj1" fmla="val -68342"/>
              <a:gd name="adj2" fmla="val 3773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情報を送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03280" y="6165720"/>
            <a:ext cx="792360" cy="142920"/>
          </a:xfrm>
          <a:prstGeom prst="leftArrow">
            <a:avLst>
              <a:gd name="adj1" fmla="val 50000"/>
              <a:gd name="adj2" fmla="val 13860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79280" y="5297400"/>
            <a:ext cx="1440000" cy="714600"/>
          </a:xfrm>
          <a:prstGeom prst="wedgeRoundRectCallout">
            <a:avLst>
              <a:gd name="adj1" fmla="val 33902"/>
              <a:gd name="adj2" fmla="val 744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本体へ渡す。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見えには、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cv()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返ったように見え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796000" y="905040"/>
            <a:ext cx="2808360" cy="583920"/>
          </a:xfrm>
          <a:prstGeom prst="wedgeRoundRectCallout">
            <a:avLst>
              <a:gd name="adj1" fmla="val -54185"/>
              <a:gd name="adj2" fmla="val 1575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CheckAuthListFirs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有効なと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無効なときは、クライアントはユーザ操作による認証失敗により認証リストを得られる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8720" y="976320"/>
            <a:ext cx="152280" cy="652320"/>
          </a:xfrm>
          <a:custGeom>
            <a:avLst/>
            <a:gdLst>
              <a:gd name="textAreaLeft" fmla="*/ 0 w 152280"/>
              <a:gd name="textAreaRight" fmla="*/ 55080 w 152280"/>
              <a:gd name="textAreaTop" fmla="*/ 16920 h 652320"/>
              <a:gd name="textAreaBottom" fmla="*/ 635400 h 652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508720" y="1773360"/>
            <a:ext cx="142920" cy="784080"/>
          </a:xfrm>
          <a:custGeom>
            <a:avLst/>
            <a:gdLst>
              <a:gd name="textAreaLeft" fmla="*/ 0 w 142920"/>
              <a:gd name="textAreaRight" fmla="*/ 51480 w 142920"/>
              <a:gd name="textAreaTop" fmla="*/ 20160 h 784080"/>
              <a:gd name="textAreaBottom" fmla="*/ 763920 h 78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96000" y="2703600"/>
            <a:ext cx="1800360" cy="296640"/>
          </a:xfrm>
          <a:prstGeom prst="wedgeRoundRectCallout">
            <a:avLst>
              <a:gd name="adj1" fmla="val -59083"/>
              <a:gd name="adj2" fmla="val -23395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ssword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の場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00360" y="32846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268360" y="3570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5280" y="3213000"/>
            <a:ext cx="1440000" cy="576360"/>
          </a:xfrm>
          <a:prstGeom prst="wedgeRoundRectCallout">
            <a:avLst>
              <a:gd name="adj1" fmla="val 80759"/>
              <a:gd name="adj2" fmla="val 1115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エージェント転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"auth-agent-req@openssh.com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700360" y="363852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2268360" y="3924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508720" y="3429000"/>
            <a:ext cx="142920" cy="647640"/>
          </a:xfrm>
          <a:custGeom>
            <a:avLst/>
            <a:gdLst>
              <a:gd name="textAreaLeft" fmla="*/ 0 w 142920"/>
              <a:gd name="textAreaRight" fmla="*/ 51480 w 14292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796000" y="4141800"/>
            <a:ext cx="1871640" cy="297000"/>
          </a:xfrm>
          <a:prstGeom prst="wedgeRoundRectCallout">
            <a:avLst>
              <a:gd name="adj1" fmla="val -57717"/>
              <a:gd name="adj2" fmla="val -18262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ForwardAge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有効なと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372360" y="1773360"/>
            <a:ext cx="1800000" cy="571320"/>
          </a:xfrm>
          <a:prstGeom prst="wedgeRoundRectCallout">
            <a:avLst>
              <a:gd name="adj1" fmla="val -102379"/>
              <a:gd name="adj2" fmla="val -900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リストの送信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ailur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を返すがサーバにはログは残らな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切断シーケン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268360" y="1203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2268360" y="16318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95280" y="833400"/>
            <a:ext cx="1440000" cy="441360"/>
          </a:xfrm>
          <a:prstGeom prst="wedgeRoundRectCallout">
            <a:avLst>
              <a:gd name="adj1" fmla="val 80097"/>
              <a:gd name="adj2" fmla="val 32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上でログアウト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627280" y="905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627280" y="1346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27280" y="17748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EO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2268360" y="20606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627280" y="22748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CLO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268360" y="25606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627280" y="27036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2268360" y="3000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08000" y="2060640"/>
            <a:ext cx="1439640" cy="868320"/>
          </a:xfrm>
          <a:prstGeom prst="wedgeRoundRectCallout">
            <a:avLst>
              <a:gd name="adj1" fmla="val 47023"/>
              <a:gd name="adj2" fmla="val 619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セッションのクローズ処理を行う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本体へ終了の通知を出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476360" y="3000240"/>
            <a:ext cx="792000" cy="142920"/>
          </a:xfrm>
          <a:prstGeom prst="leftArrow">
            <a:avLst>
              <a:gd name="adj1" fmla="val 50000"/>
              <a:gd name="adj2" fmla="val 13853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maya</cp:lastModifiedBy>
  <dcterms:modified xsi:type="dcterms:W3CDTF">2008-12-03T08:01:51Z</dcterms:modified>
  <cp:revision>321</cp:revision>
  <dc:subject/>
  <dc:title>DDEのしくみ</dc:title>
</cp:coreProperties>
</file>