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E958-3D68-4FE6-999A-FD78F6EC9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1407-4FBB-460B-808C-91D1D9CE8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52AB-FA79-4B9C-89B8-6082240D2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37AA-4DF7-4972-885E-7D05D24EE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7F6E-AA11-4126-B876-47F3F79D9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2A32-3475-494F-B7F8-0C9710DB8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E878-947D-4DB1-90BB-266DAE12E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76D4-70C7-44F8-B1D2-35B17A513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23D0-F4F3-4BE1-B3D2-5C4F521F1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924B-3A66-424D-8385-49E359B3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28C4-2605-4DA0-B263-657639A9C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C486-F13E-4BD1-811B-C8028BB5C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49FC1-2C90-440D-A1E2-46CABA2A5E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833400"/>
            <a:ext cx="100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346040"/>
            <a:ext cx="2305080" cy="214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1.99-OpenSSH_4.3p2 Debian-9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274760"/>
            <a:ext cx="1440000" cy="357120"/>
          </a:xfrm>
          <a:prstGeom prst="wedgeRoundRectCallout">
            <a:avLst>
              <a:gd name="adj1" fmla="val 80652"/>
              <a:gd name="adj2" fmla="val 1539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ージョン情報交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198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1703520"/>
            <a:ext cx="2305080" cy="214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2.0-TTSSH/2.46 Win32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346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60720" y="206064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68360" y="2631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917720"/>
            <a:ext cx="1440000" cy="428760"/>
          </a:xfrm>
          <a:prstGeom prst="wedgeRoundRectCallout">
            <a:avLst>
              <a:gd name="adj1" fmla="val 80652"/>
              <a:gd name="adj2" fmla="val 1023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キー交換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270360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2786040"/>
            <a:ext cx="1439640" cy="428760"/>
          </a:xfrm>
          <a:prstGeom prst="wedgeRoundRectCallout">
            <a:avLst>
              <a:gd name="adj1" fmla="val 70726"/>
              <a:gd name="adj2" fmla="val 1286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DH(Diffie-Hellman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鍵の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268360" y="342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31431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350028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37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38577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268360" y="4156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2720" y="3000240"/>
            <a:ext cx="144360" cy="122724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7240"/>
              <a:gd name="textAreaBottom" fmla="*/ 1195560 h 122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43704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268360" y="4656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268360" y="5013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0720" y="241776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47275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727520"/>
            <a:ext cx="1439640" cy="428760"/>
          </a:xfrm>
          <a:prstGeom prst="wedgeRoundRectCallout">
            <a:avLst>
              <a:gd name="adj1" fmla="val 99504"/>
              <a:gd name="adj2" fmla="val -56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生成終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5227560"/>
            <a:ext cx="289080" cy="1297080"/>
          </a:xfrm>
          <a:prstGeom prst="downArrow">
            <a:avLst>
              <a:gd name="adj1" fmla="val 50000"/>
              <a:gd name="adj2" fmla="val 112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5299200"/>
            <a:ext cx="2519640" cy="725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これ以降はパケット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（共通鍵）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されるため、パケットキャプチ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不可と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584680"/>
            <a:ext cx="1440000" cy="439920"/>
          </a:xfrm>
          <a:prstGeom prst="wedgeRoundRectCallout">
            <a:avLst>
              <a:gd name="adj1" fmla="val 94541"/>
              <a:gd name="adj2" fmla="val -4779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52992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68360" y="5584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56563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ACCE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68360" y="5952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5227560"/>
            <a:ext cx="4103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3786120"/>
            <a:ext cx="1439640" cy="441360"/>
          </a:xfrm>
          <a:prstGeom prst="wedgeRoundRectCallout">
            <a:avLst>
              <a:gd name="adj1" fmla="val 90023"/>
              <a:gd name="adj2" fmla="val 29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known_hosts”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チェ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（続き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1197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690480"/>
            <a:ext cx="1440000" cy="441360"/>
          </a:xfrm>
          <a:prstGeom prst="wedgeRoundRectCallout">
            <a:avLst>
              <a:gd name="adj1" fmla="val 80097"/>
              <a:gd name="adj2" fmla="val 657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1268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USERAUTH_FAIL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1700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19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1440000" cy="4287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名とパスワードを送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21286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268360" y="24145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0320"/>
            <a:ext cx="1439640" cy="36828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2565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2851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637000"/>
            <a:ext cx="1440000" cy="35712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セッション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s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2924280"/>
            <a:ext cx="309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_CONFI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68360" y="3208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39988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4284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39988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シェルリクエス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ty-req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00360" y="43560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68360" y="4654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4726080"/>
            <a:ext cx="2449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50115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7260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ll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68360" y="5440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5154480"/>
            <a:ext cx="2808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WINDOW_ADJ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4940280"/>
            <a:ext cx="1800360" cy="571680"/>
          </a:xfrm>
          <a:prstGeom prst="wedgeRoundRectCallout">
            <a:avLst>
              <a:gd name="adj1" fmla="val -68342"/>
              <a:gd name="adj2" fmla="val 392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ウィンドウサイズ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00360" y="55119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68360" y="57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5940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268360" y="623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5797440"/>
            <a:ext cx="1800360" cy="511200"/>
          </a:xfrm>
          <a:prstGeom prst="wedgeRoundRectCallout">
            <a:avLst>
              <a:gd name="adj1" fmla="val -68342"/>
              <a:gd name="adj2" fmla="val 3773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情報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6165720"/>
            <a:ext cx="792360" cy="142920"/>
          </a:xfrm>
          <a:prstGeom prst="leftArrow">
            <a:avLst>
              <a:gd name="adj1" fmla="val 50000"/>
              <a:gd name="adj2" fmla="val 1386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5297400"/>
            <a:ext cx="1440000" cy="714600"/>
          </a:xfrm>
          <a:prstGeom prst="wedgeRoundRectCallout">
            <a:avLst>
              <a:gd name="adj1" fmla="val 33902"/>
              <a:gd name="adj2" fmla="val 7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渡す。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見えには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返ったように見え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905040"/>
            <a:ext cx="2808360" cy="583920"/>
          </a:xfrm>
          <a:prstGeom prst="wedgeRoundRectCallout">
            <a:avLst>
              <a:gd name="adj1" fmla="val -54185"/>
              <a:gd name="adj2" fmla="val 15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heckAuthListFirs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無効なときは、クライアントはユーザ操作による認証失敗により認証リストを得られる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976320"/>
            <a:ext cx="152280" cy="652320"/>
          </a:xfrm>
          <a:custGeom>
            <a:avLst/>
            <a:gdLst>
              <a:gd name="textAreaLeft" fmla="*/ 0 w 152280"/>
              <a:gd name="textAreaRight" fmla="*/ 55080 w 152280"/>
              <a:gd name="textAreaTop" fmla="*/ 16920 h 652320"/>
              <a:gd name="textAreaBottom" fmla="*/ 635400 h 65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1773360"/>
            <a:ext cx="142920" cy="784080"/>
          </a:xfrm>
          <a:custGeom>
            <a:avLst/>
            <a:gdLst>
              <a:gd name="textAreaLeft" fmla="*/ 0 w 142920"/>
              <a:gd name="textAreaRight" fmla="*/ 51480 w 142920"/>
              <a:gd name="textAreaTop" fmla="*/ 20160 h 784080"/>
              <a:gd name="textAreaBottom" fmla="*/ 763920 h 78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2703600"/>
            <a:ext cx="1800360" cy="296640"/>
          </a:xfrm>
          <a:prstGeom prst="wedgeRoundRectCallout">
            <a:avLst>
              <a:gd name="adj1" fmla="val -59083"/>
              <a:gd name="adj2" fmla="val -23395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の場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32846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3570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213000"/>
            <a:ext cx="1440000" cy="576360"/>
          </a:xfrm>
          <a:prstGeom prst="wedgeRoundRectCallout">
            <a:avLst>
              <a:gd name="adj1" fmla="val 80759"/>
              <a:gd name="adj2" fmla="val 1115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エージェント転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"auth-agent-req@openssh.com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363852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68360" y="3924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342900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6000" y="4141800"/>
            <a:ext cx="1871640" cy="297000"/>
          </a:xfrm>
          <a:prstGeom prst="wedgeRoundRectCallout">
            <a:avLst>
              <a:gd name="adj1" fmla="val -57717"/>
              <a:gd name="adj2" fmla="val -1826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wardAge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72360" y="1773360"/>
            <a:ext cx="1800000" cy="571320"/>
          </a:xfrm>
          <a:prstGeom prst="wedgeRoundRectCallout">
            <a:avLst>
              <a:gd name="adj1" fmla="val -102379"/>
              <a:gd name="adj2" fmla="val -9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送信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ilur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を返すがサーバにはログは残ら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切断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833400"/>
            <a:ext cx="1440000" cy="4413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上でログアウト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27280" y="1346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27280" y="17748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E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268360" y="2060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22748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CL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68360" y="2560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7280" y="27036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8000" y="2060640"/>
            <a:ext cx="1439640" cy="868320"/>
          </a:xfrm>
          <a:prstGeom prst="wedgeRoundRectCallout">
            <a:avLst>
              <a:gd name="adj1" fmla="val 47023"/>
              <a:gd name="adj2" fmla="val 619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セッションのクローズ処理を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終了の通知を出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3000240"/>
            <a:ext cx="792000" cy="142920"/>
          </a:xfrm>
          <a:prstGeom prst="leftArrow">
            <a:avLst>
              <a:gd name="adj1" fmla="val 50000"/>
              <a:gd name="adj2" fmla="val 13853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2-03T08:01:51Z</dcterms:modified>
  <cp:revision>321</cp:revision>
  <dc:subject/>
  <dc:title>DDEのしくみ</dc:title>
</cp:coreProperties>
</file>