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D24E-0085-49B5-84B0-71559637B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0FFD-1FD1-411D-A5F5-BE05013AC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1BCF-DE3C-44E2-B45A-3E588550A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CC4F-8884-4E5C-B2E9-ED6525307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4878-3370-4163-A82E-32B3EE36A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C433-7EE9-4FF0-8DBD-967C13170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0297-572C-493F-9993-8ECF291B4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D348-5E0C-4A51-9406-563599938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7C17-A1F0-42E7-B47A-4537746D2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6B7E-EB5F-449A-AF9D-1E1977C34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CE9C-1744-492F-AE99-6CD0765DF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115A-72EE-46F3-8C23-5AFA50864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7CB2F-0018-42C2-B914-72DF4B0784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フロー制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リモートホス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041480" y="1341360"/>
            <a:ext cx="1225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受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使用中およびログ採取時は、バッファへ格納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フルになると、最古のデータから上書きされ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プログラ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で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の中身を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すべて、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マクロ（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クライアント）へ送信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データをすべてリングバッファとして保存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843280" y="5661000"/>
            <a:ext cx="3744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コマンド”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sync”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で、同期されるのは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とマクロ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通信間のみ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リモートホストから大量にパケットが送られてき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ときは、データの取りこぼしが発生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1T13:09:57Z</dcterms:modified>
  <cp:revision>157</cp:revision>
  <dc:subject/>
  <dc:title>DDEのしくみ</dc:title>
</cp:coreProperties>
</file>