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66E1-B1BF-4412-B186-7DC6D41DE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775A-E09A-4213-B494-8A23B9152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D7B4-DB57-4A31-929C-68929F82B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97A4-4094-4587-B3B6-92AD671A3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6930-3952-4DDF-9617-C63D02D98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26C8-5149-4B1E-82A4-DCFEB2B6B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8920-93CC-4A04-B5C1-A06655DBB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742E-23B0-4455-93E8-930083076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71E3-CB38-482D-A94F-5A75C9DC9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92AB-7F71-4140-9174-8AF79F361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F073-B553-4747-9AB7-1E7E3B8F7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42AF-F72C-4C3C-AD8E-5E983688B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7249D-EFAB-4840-BEDA-21325210E1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フロー制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1480" y="1341360"/>
            <a:ext cx="122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使用中およびログ採取時は、バッファへ格納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フルになると、最古のデータから上書きされ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で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の中身を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すべて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クロ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）へ送信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データをすべてリングバッファとして保存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661000"/>
            <a:ext cx="3744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コマンド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ync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、同期されるのは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マクロ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通信間のみ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から大量にパケットが送られてき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きは、データの取りこぼしが発生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1T13:09:57Z</dcterms:modified>
  <cp:revision>157</cp:revision>
  <dc:subject/>
  <dc:title>DDEのしくみ</dc:title>
</cp:coreProperties>
</file>