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3D9D-8E3A-4AC8-8115-8D5C526B2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5943-0F11-4512-9D50-D0FB5CE61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1244-ABAE-4956-BAD1-529DC03AF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97C0-54F5-4EE4-88F0-5116D4073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7567-47D1-47F6-B2FD-BE767191C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6454-E490-43B6-9323-F50D05A96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496C-CA48-4660-9DEA-2C01ED857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0F8C-54B2-43DF-82CF-24BF1BDE0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CCCF-3D23-47CB-8C1A-7B7408E5B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4284-7F68-4D82-AC22-5B9713AD7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FA83-60AF-4A04-98F3-EED4FA1C5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6D87-039A-4937-896B-5DCE835FB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EC9C0EBF-3DA7-4878-A5D0-0D8125AF2F13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山本 耕司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自動生成アーキテクチャ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1836-0274-4367-BAED-58598BD918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遭遇した問題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セルの値が読め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C83A-70F0-447F-B383-DA431C0A20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までは問題なし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上ではセルの値が読め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中間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イルの中身が空っ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ソースコードが生成され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内部表現が変わったのが原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なし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あ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” → “UTF-16LE”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E76B-1D65-47D4-B6E8-CB67C0A0F7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特定の文字が文字化け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常に文字化けが発生するわけで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\u0000-\u00ff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文字だけからなるセルで発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SCII (Compressed) St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WorkbookSetting#getEncoding(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エンコーディングで復元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がなければデフォルトエンコーディン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WorkbookSetting#setEncoding(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ISO8859_1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指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自体の修正は必要なし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ート名の文字化けは別途対応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, "ISO8859_1"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5D2F-AFB4-4140-B52A-8E571A69A5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ExcelApi blanco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パッ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Common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同梱して配布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ourceForge.j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てパッチ提供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cvs.sourceforge.jp/cgi-bin/viewcvs.cgi/blancofw/blancoMisc/doc/jexcelapi/#dirlis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最新のパッチは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xl-2.6.2blanco4.patch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B8E8-2598-468C-8FB1-200D61D3B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lanco JExcelApi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メーリングリスト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fw-jexcelapi M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lists.sourceforge.jp/mailman/listinfo/blancofw-jexcelapi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 M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、ユーザ数最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ほとんど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5DC7-2BC1-4543-827B-11AAD2100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 ML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よろしく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も ・・・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3-16T05:48:00Z</dcterms:modified>
  <cp:revision>217</cp:revision>
  <dc:subject/>
  <dc:title>blanco Framework　システム構成</dc:title>
</cp:coreProperties>
</file>