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F44-559F-4C37-9D32-541B515F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D96-8AC2-424B-A75F-A3B9DEC4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791-036D-4DF9-B85C-3083B053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7C8-16EC-4150-A261-85A8F968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FD8-3856-4402-B43C-4F0B7CD2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0EB-2F43-4A82-972D-579C6500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647-D827-4884-B83F-1C3AF7B6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EBD-DA6C-4D9F-A84E-4D9D6F4F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C1E8-EEF0-4EA6-96CD-2FC91CD3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5BCA-CC52-4159-8B0D-11912D9A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AA3-C14C-4DEB-98B7-06BE9086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C56-92DD-431A-80C0-4641647B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94FE-D922-42B1-A004-D5EC53CC2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16360" y="494172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動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D5B-B2CD-4411-8FF8-FDEE2542E7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5:57Z</dcterms:modified>
  <cp:revision>219</cp:revision>
  <dc:subject/>
  <dc:title>blanco Framework　システム構成</dc:title>
</cp:coreProperties>
</file>