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41D11-2D89-4216-9B40-44DBCFB1439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A7AA-5E6C-4CC5-90DD-A5162295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95CD-5B7F-4B5F-A620-2FDF3332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B32-3153-4298-8FE8-F6F0F3CE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2379-70B2-4C51-A252-81144747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9401-12AE-4AAD-9438-920FA06E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2222-BCEB-4AC7-8643-EF51F325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E8ED-124A-44A7-A813-8379934E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DD64-EB3D-4E51-A618-70FF918D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54A4-A2E6-4E46-9FEB-D11DE313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D921-3626-48CA-8448-1900CC1F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1712-E70C-4C41-8903-15826757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4489-88A8-477C-9439-A56B85DD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1DB5-C4B0-4D6E-8955-68253F7E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4755-A279-4B1E-9CA0-32C0338A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DFFB-E07B-4AEA-8174-1AF8A95F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DDFA-5507-47EF-9A63-789E5C0E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85F7-0B9E-4AB3-9914-C361ABC7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6163-217E-41FD-A59B-92C5EC12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03F8-45FD-431C-81B2-1507A97C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AC3-88CF-4DF6-A3C0-2358CF47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E026-692B-4779-8B3F-7CE9DFF7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CBB-8702-46FA-BDB5-64175D11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053A-875C-4F49-B623-BA7C5D76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CE8-7F14-4088-BF45-42E1EA66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9B583-B7BB-40A4-A1BC-884764BE37EB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D69DAF3-997A-4199-80B7-F33F1A2713B5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054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OF 2006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ju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西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UNIX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研究会 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39C3-4410-4895-B2A3-8CDA46B11DF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設計理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よりどこ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風味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レームワー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が欲し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84760" y="144360"/>
            <a:ext cx="47196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特に意識している「定理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スモール・イズ・ビューティフル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小さいものは美し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一つのプログラムには一つのことをうまくやらせ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早く試作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効率より移植性を優先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フトウェアを梃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て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して使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過度の対話的インタフェースを避け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すべてのプログラムをフィルタとして設計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1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モール・イズ・ビューティフル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小さいものは美しい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シンプ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オブジェクト指向を使わな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すぐに使うことができるよう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 , tail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コマンドなどを参考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自動生成されたソースコードの実行時ライブラリを不要に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2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一つのプログラムには一つのことをうまくやらせ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機能を減ら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l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を見ただけで仕様が連想できるよう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各プロダクトは互いに疎結合に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3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できるだけ早く試作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にかく試作してみ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4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効率より移植性を優先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複数プログラミング言語のソースコード自動生成を実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最初は リファレンス実装を実現してい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6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フトウェアを梃子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てこ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して使う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ユーザが指定する必要のある項目を極力減ら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梃子の原理により、必要な入力項目を自動収集してしま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blancoDb: JDBC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ライバ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文を試し打ちすることにより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文のメタ情報をデータベースから取得する。検索結果の列名や型情報をメタ情報から取得することにより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Objec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やマッピングのようなことも自動収集で済ませてしまう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8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過度の対話的インタフェースを避け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ache Ant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または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プラグインによる「寡黙な」インタフェー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小さなプロダクトの集合体による開発フレームワー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9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すべてのプログラムをフィルタとして設計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ィルタ処理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バッチ処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して実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表計算形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*.xls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に変換するフィルタ処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: 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からソースコードを自動生成するフィルタ処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F94-23F1-4D42-8962-99384B69A46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「さらなる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10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UNIX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考え方」か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部分の総和は全体よりも大き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パーセントの解を目指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劣るほうが優れてい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具体的な 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ロダクト群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-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マッピングという考え方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ava / C#.NET / JavaScript / VB.NET / PHP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520B-D268-4FCF-B6BE-1F2CD318681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C689-1DA8-491D-AE32-8D4F0B1865A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8000" y="35002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51280" y="3357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149720"/>
            <a:ext cx="799308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rc 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編集不要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ﾄﾘｯｸ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ce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 Anywhe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A441-C72C-420F-AA9B-7F73DF7E19CB}" type="slidenum">
              <a:t>73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6-11-15T08:50:39Z</dcterms:modified>
  <cp:revision>465</cp:revision>
  <dc:subject/>
  <dc:title>blanco Framework ご紹介</dc:title>
</cp:coreProperties>
</file>