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1636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901800" y="739440"/>
            <a:ext cx="492912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898200" y="4686480"/>
            <a:ext cx="493380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937224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16360" y="937224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0A517A-D67F-4A44-AB0B-AE173476BDEE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D8C9-ABD8-4AA8-9E4E-C40293E2A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38B0-BE6A-4F93-BADF-1BAD53729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B475-27F4-4F9D-9038-182208A46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7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8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7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8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2832-3389-4D2D-82CE-DC8A4B0A2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8E7A2-ABF5-4231-82FD-78F926959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81E36-F463-490D-9A4E-BC6022464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6941A-6181-423C-A1BF-E168B6230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C1A75-581D-4FAC-897F-74DCDC4B2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9AAF9-BD9B-41E3-83F2-118C3F70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440" y="2141640"/>
            <a:ext cx="7767720" cy="66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75C26-90AA-4443-B4B3-BC4339161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1D860-36B4-4CB8-9C2A-122677C5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F7D4-F35D-46A4-89ED-62ACB0ABF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D72A7-41E5-4BAB-8E15-7C7A5984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078C8-BDF7-4939-936A-11091C6B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AB6DF-E748-47E0-BB2D-9A4EA771F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294C8-4753-47B9-9F78-84EAD8510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8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8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00136-A019-48FA-A007-92B691F9D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DD71-3E94-4856-AA25-A68E671AB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82C7-5394-42A4-A90B-061DC76D5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E148-D733-4C71-9C94-E4DCE16B4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440" y="2141640"/>
            <a:ext cx="7767720" cy="66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167D-4696-48EB-A990-280887B10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54B3-73B1-4433-A4B5-DBEE28F3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FADA-CC15-4D52-8965-DC7226E8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2C9D-C014-4861-8A9B-FBB4179E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080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172200"/>
            <a:ext cx="19004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2B5B26-4E0C-4C9C-B19E-039AE1647D1C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080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172200"/>
            <a:ext cx="19004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EF59278-99B1-4FCD-9256-7B9E95CAA589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6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4056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blanco Framework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ご紹介 </a:t>
            </a:r>
            <a:br>
              <a:rPr sz="4400"/>
            </a:b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            </a:t>
            </a: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KOF 2006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版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2006.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いがぴょん 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伊賀 敏樹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lanco Framework 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コミッ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04920"/>
            <a:ext cx="1218960" cy="368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Times New Roman"/>
              </a:rPr>
              <a:t>公開文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77A28-9572-4CFE-BEB7-E57DCC42DC8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全体的な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ドキュメントに書いたとおりのプログラムが作成でき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ドキュメントを変更したら、プログラムが自動的に変更される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ルーチンワーク的なコーディングを自動化でき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データベース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5977080" cy="5506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447920" y="3678120"/>
            <a:ext cx="73152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フラッグシップ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 EE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632720" cy="5624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780000" y="5373720"/>
            <a:ext cx="136836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24360" y="45086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/O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95280" y="1025640"/>
            <a:ext cx="8424720" cy="5283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 EE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高速なデータベースアクセ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ストアドプロシージャ対応あり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必要なソースコードを全て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省メモリ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大量データ件数の処理が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カーソルのスクロール方向が指定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.net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619280" y="1052640"/>
            <a:ext cx="6332400" cy="55782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447920" y="3678120"/>
            <a:ext cx="73152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NET</a:t>
            </a: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有マス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941400" y="1096920"/>
            <a:ext cx="7734240" cy="55008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DotNet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51280" y="5157720"/>
            <a:ext cx="136836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211640" y="45086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/O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204920" y="971640"/>
            <a:ext cx="6751800" cy="56196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Dot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高速なデータベースアクセ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ストアドプロシージャ対応あり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必要なソースコードを全て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省メモリ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大量データ件数の処理が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発表者自己紹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7848720" cy="555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E693-3EAB-4099-95A9-923D4A8C1FC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関連ツール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: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整形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前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228600" y="1947960"/>
          <a:ext cx="8686800" cy="31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47960"/>
                    <a:ext cx="8686800" cy="31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685800" y="5410080"/>
            <a:ext cx="81532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6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メニューから整形を実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関連ツール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: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整形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後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200240" y="1676520"/>
          <a:ext cx="6743520" cy="48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1676520"/>
                    <a:ext cx="674352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609480" y="5410080"/>
            <a:ext cx="815364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ﾀﾞｳﾝﾛｰﾄﾞ最多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NSI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カラー表示機能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ANSI SQL8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aa00ff"/>
                </a:solidFill>
                <a:latin typeface="Arial"/>
              </a:rPr>
              <a:t>ANSI SQL9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5500ff"/>
                </a:solidFill>
                <a:latin typeface="Arial"/>
              </a:rPr>
              <a:t>ANSI SQL9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RUNCATE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などのメジャーな 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しかし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NSI SQL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には含まれない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キーワード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00aa00"/>
                </a:solidFill>
                <a:latin typeface="Arial"/>
              </a:rPr>
              <a:t>コメント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文字列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オンライン・バッチ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電文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973080" y="1071720"/>
            <a:ext cx="7559640" cy="54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電文処理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792000" y="1071720"/>
            <a:ext cx="7740720" cy="54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66720" y="1187280"/>
            <a:ext cx="7794720" cy="54723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OAP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82920" y="3070080"/>
            <a:ext cx="13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51280" y="36050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66720" y="1079640"/>
            <a:ext cx="7974000" cy="521964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Web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サービス定義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WSDL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20720" y="1079640"/>
            <a:ext cx="7559640" cy="50400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XM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スキーマ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XS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74640" y="1079640"/>
            <a:ext cx="7605720" cy="521964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7240" y="7293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blanco Framework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とは何か？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2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オープンソースの下流開発フレームワーク</a:t>
            </a:r>
            <a:br>
              <a:rPr sz="3200"/>
            </a:b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ライセンス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GNU LGP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xcel(*.xls)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ファイル形式の様式を中心とした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Java / C#.NET / JavaScript / VB.NET / PHP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ソースコード自動生成に対応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数十人月から数千人月規模のプロジェクトで適用実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5A91-2C27-4634-B29B-E8865EA6F682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39640" y="1079640"/>
            <a:ext cx="7740720" cy="54003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OAP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だれでも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b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サービス設計・製造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SDL / XML Schema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を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設定ファイル／ソースコードを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ッチ処理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08000" y="1224000"/>
            <a:ext cx="895356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11280" y="1036800"/>
            <a:ext cx="7921440" cy="53766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ッチ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BatchProcess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コマンドライン引数チェックロジックの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安心できるバッチプログラム製造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age()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XML</a:t>
            </a: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・文字列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17680" y="1108080"/>
            <a:ext cx="837540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blancoStringConverter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51280" y="324468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84360" y="1371600"/>
            <a:ext cx="8135640" cy="47214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050920" y="3646440"/>
            <a:ext cx="13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68360" y="1022400"/>
            <a:ext cx="8280360" cy="535932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6740640" cy="55785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５プログラミング言語に対応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新たに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B.NET , PHP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自動生成に対応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av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#.N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avaScrip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B.N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H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ソースコード自動生成は多プログラミング言語対応時代に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32040" y="1058760"/>
            <a:ext cx="7385040" cy="524988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JavaScript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Scrip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VB.NET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8281800" cy="49388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VB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417080" cy="52876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P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PHP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グループ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662616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グループ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7848720" cy="46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メッセージ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68360" y="1069920"/>
            <a:ext cx="828036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リューオブジェクト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77068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数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87480" y="1154160"/>
            <a:ext cx="896904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定義書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固定長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74600" y="1646280"/>
            <a:ext cx="879480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7240" y="7293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基本パター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表計算ソフトで定義書の記入をす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プラグインのボタンを押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ソースコードが自動生成され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ADFA-6F01-4124-87C5-1CA406D7A4DC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324000" y="1838160"/>
            <a:ext cx="8532720" cy="411192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FixedLength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24360" y="242100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08360" y="3141720"/>
            <a:ext cx="46087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95640" y="4581360"/>
            <a:ext cx="46087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リソースバンドル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20760" y="1204920"/>
            <a:ext cx="864396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826920" y="2133720"/>
            <a:ext cx="7704360" cy="32004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blancoResourceBundle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908000" y="4078440"/>
            <a:ext cx="136872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51280" y="39337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09080" cy="272412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ロパティファイル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835280" y="3301920"/>
            <a:ext cx="676908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.properties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064360" cy="550404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ロパティファイル 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システム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サービス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4978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611280" y="1947960"/>
            <a:ext cx="8280360" cy="328140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ervice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908000" y="4078440"/>
            <a:ext cx="136872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51280" y="39337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1280" y="5300640"/>
            <a:ext cx="7993080" cy="9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41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Java</a:t>
            </a: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アプリ簡単常駐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ntTask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03320" y="1752480"/>
            <a:ext cx="8939160" cy="335304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611280" y="5300640"/>
            <a:ext cx="7993080" cy="9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41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らくらく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Ant</a:t>
            </a: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タスク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第二世代ソースコード自動生成は、</a:t>
            </a:r>
            <a:br>
              <a:rPr sz="4000"/>
            </a:b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複数プログラミング言語対応！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rite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ocumen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Once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un Anywher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定義書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CSV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9320" y="1228680"/>
            <a:ext cx="904536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イノベーションは</a:t>
            </a:r>
            <a:br>
              <a:rPr sz="4400"/>
            </a:b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　　オープンソースから！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生産性・保守性・品質を劇的向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 Framework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をよろしく！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70400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2475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終わり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2057400" y="4248000"/>
            <a:ext cx="6400800" cy="17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672F2-73E9-4C7B-8FA2-6928DED03887}" type="slidenum">
              <a:t>62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7345440" cy="36673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Csv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82920" y="4078440"/>
            <a:ext cx="136836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51280" y="41083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848360" cy="53355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ファイル入出力 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848720" cy="5580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ファイル入出力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db</cp:lastModifiedBy>
  <dcterms:modified xsi:type="dcterms:W3CDTF">2006-11-15T06:35:53Z</dcterms:modified>
  <cp:revision>313</cp:revision>
  <dc:subject/>
  <dc:title>blanco Framework ご紹介</dc:title>
</cp:coreProperties>
</file>