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0B1A-E711-48CA-8511-0812CB376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5F56-B25E-4BAD-A909-7A5FA3AF4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1E65-9A13-436A-BF63-56A4280D5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A0BD-D4B6-48CA-B754-FF26C4842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0540-00D3-4256-BF9E-D6C7024BE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D529-E55E-4249-9EA0-0D4639019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00C0-904B-4638-B0DA-52067FA92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BA6F-C6AF-4953-9A44-E9FE73E31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6AE8-EBD3-4817-810C-665187E1F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F6CC-B71A-459B-A785-49720AEA9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AB49-B741-4B81-9E0E-5BF95E86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62D7-40E0-4384-8862-BC2BDAF1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0DF7D-5FC2-4BA4-AA0B-7CA984C39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773360"/>
            <a:ext cx="7632720" cy="41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249228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328464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4005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4653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5229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8472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1341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69120" y="725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うそうそ帳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53720" y="28116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/12/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作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88120" y="62420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うまく出来るかしら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1:29:08Z</dcterms:created>
  <dc:creator>株式会社ＮＴＴデータビジネスブレインズ</dc:creator>
  <dc:description/>
  <dc:language>en-US</dc:language>
  <cp:lastModifiedBy>株式会社ＮＴＴデータビジネスブレインズ</cp:lastModifiedBy>
  <dcterms:modified xsi:type="dcterms:W3CDTF">2009-12-22T11:30:08Z</dcterms:modified>
  <cp:revision>2</cp:revision>
  <dc:subject/>
  <dc:title>スライド 1</dc:title>
</cp:coreProperties>
</file>