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F85FE-2FBC-45FE-BC40-3BF50002E9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E8F87-71B7-41EC-A90A-6223685368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7ECFC-566E-4C76-8B3F-187F31C35F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D95B0-CB46-49C2-922B-6D2078E3F6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0CBE7-9D1A-49DA-898E-695205EAE4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82048-B8C5-416A-A0E1-5629C30C0C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66186-5CE8-4DC5-9C42-169B8EA31B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00767-000D-4CEA-8570-355E6E7529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180720"/>
            <a:ext cx="8686800" cy="10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B0A62-7473-4513-AD44-A1EAB0D69D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8281C-6639-437B-BC57-C147D3EF3B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1E929-70AE-4FED-AB20-E3FD6E8229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FDFD6-70AC-4567-B2C8-A3B602983D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80720"/>
            <a:ext cx="8686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265D-63DE-4C06-B018-64BAC563E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457200"/>
            <a:ext cx="8839440" cy="624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152280"/>
            <a:ext cx="8839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33000" y="1266840"/>
            <a:ext cx="54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A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1360" y="1889280"/>
            <a:ext cx="13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StageNowLo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2800" y="2575080"/>
            <a:ext cx="112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StagePlayD/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3480" y="3322800"/>
            <a:ext cx="57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DT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3880" y="143352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93880" y="211932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3880" y="2805120"/>
            <a:ext cx="78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93880" y="3495600"/>
            <a:ext cx="78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1357200"/>
            <a:ext cx="76201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09640" y="1357200"/>
            <a:ext cx="5763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09640" y="2043000"/>
            <a:ext cx="57636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1" idx="1"/>
            <a:endCxn id="52" idx="1"/>
          </p:cNvCxnSpPr>
          <p:nvPr/>
        </p:nvCxnSpPr>
        <p:spPr>
          <a:xfrm>
            <a:off x="170964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" name=""/>
          <p:cNvCxnSpPr>
            <a:stCxn id="51" idx="3"/>
            <a:endCxn id="52" idx="3"/>
          </p:cNvCxnSpPr>
          <p:nvPr/>
        </p:nvCxnSpPr>
        <p:spPr>
          <a:xfrm>
            <a:off x="228600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" name=""/>
          <p:cNvSpPr/>
          <p:nvPr/>
        </p:nvSpPr>
        <p:spPr>
          <a:xfrm>
            <a:off x="1678680" y="1814400"/>
            <a:ext cx="5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2043000"/>
            <a:ext cx="22860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62320" y="1357200"/>
            <a:ext cx="228600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7" idx="1"/>
            <a:endCxn id="56" idx="1"/>
          </p:cNvCxnSpPr>
          <p:nvPr/>
        </p:nvCxnSpPr>
        <p:spPr>
          <a:xfrm>
            <a:off x="236232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57" idx="3"/>
            <a:endCxn id="56" idx="3"/>
          </p:cNvCxnSpPr>
          <p:nvPr/>
        </p:nvCxnSpPr>
        <p:spPr>
          <a:xfrm>
            <a:off x="464832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" name=""/>
          <p:cNvSpPr/>
          <p:nvPr/>
        </p:nvSpPr>
        <p:spPr>
          <a:xfrm>
            <a:off x="2321280" y="1814400"/>
            <a:ext cx="64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Main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23036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14800" y="2286000"/>
            <a:ext cx="25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043000"/>
            <a:ext cx="5331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3414600"/>
            <a:ext cx="53316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>
            <a:stCxn id="63" idx="1"/>
            <a:endCxn id="64" idx="1"/>
          </p:cNvCxnSpPr>
          <p:nvPr/>
        </p:nvCxnSpPr>
        <p:spPr>
          <a:xfrm>
            <a:off x="259092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" name=""/>
          <p:cNvCxnSpPr>
            <a:stCxn id="63" idx="3"/>
            <a:endCxn id="64" idx="3"/>
          </p:cNvCxnSpPr>
          <p:nvPr/>
        </p:nvCxnSpPr>
        <p:spPr>
          <a:xfrm>
            <a:off x="312408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" name=""/>
          <p:cNvSpPr/>
          <p:nvPr/>
        </p:nvSpPr>
        <p:spPr>
          <a:xfrm>
            <a:off x="2590920" y="3032280"/>
            <a:ext cx="607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tivate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oad, </a:t>
            </a:r>
            <a:r>
              <a:rPr b="0" lang="zh-CN" sz="1000" spc="-1" strike="noStrike">
                <a:solidFill>
                  <a:srgbClr val="000000"/>
                </a:solidFill>
                <a:latin typeface="Arial Narrow"/>
              </a:rPr>
              <a:t>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57560" y="2728800"/>
            <a:ext cx="576360" cy="152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6240" y="2500200"/>
            <a:ext cx="5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57560" y="2043000"/>
            <a:ext cx="5763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>
            <a:stCxn id="70" idx="1"/>
            <a:endCxn id="68" idx="1"/>
          </p:cNvCxnSpPr>
          <p:nvPr/>
        </p:nvCxnSpPr>
        <p:spPr>
          <a:xfrm>
            <a:off x="3157560" y="21193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" name=""/>
          <p:cNvCxnSpPr>
            <a:stCxn id="70" idx="3"/>
            <a:endCxn id="68" idx="3"/>
          </p:cNvCxnSpPr>
          <p:nvPr/>
        </p:nvCxnSpPr>
        <p:spPr>
          <a:xfrm>
            <a:off x="3733920" y="21193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3" name=""/>
          <p:cNvSpPr/>
          <p:nvPr/>
        </p:nvSpPr>
        <p:spPr>
          <a:xfrm>
            <a:off x="3767040" y="3414600"/>
            <a:ext cx="57636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35360" y="3032280"/>
            <a:ext cx="66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LoadBMP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Load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67040" y="2043000"/>
            <a:ext cx="5763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75" idx="1"/>
            <a:endCxn id="73" idx="1"/>
          </p:cNvCxnSpPr>
          <p:nvPr/>
        </p:nvCxnSpPr>
        <p:spPr>
          <a:xfrm>
            <a:off x="376704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" name=""/>
          <p:cNvCxnSpPr>
            <a:stCxn id="75" idx="3"/>
            <a:endCxn id="73" idx="3"/>
          </p:cNvCxnSpPr>
          <p:nvPr/>
        </p:nvCxnSpPr>
        <p:spPr>
          <a:xfrm>
            <a:off x="434340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8" name=""/>
          <p:cNvSpPr/>
          <p:nvPr/>
        </p:nvSpPr>
        <p:spPr>
          <a:xfrm>
            <a:off x="4397400" y="22892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49160" y="227160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57760" y="1357200"/>
            <a:ext cx="65232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57760" y="2043000"/>
            <a:ext cx="6523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stCxn id="80" idx="1"/>
            <a:endCxn id="81" idx="1"/>
          </p:cNvCxnSpPr>
          <p:nvPr/>
        </p:nvCxnSpPr>
        <p:spPr>
          <a:xfrm>
            <a:off x="475776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3" name=""/>
          <p:cNvCxnSpPr>
            <a:stCxn id="80" idx="3"/>
            <a:endCxn id="81" idx="3"/>
          </p:cNvCxnSpPr>
          <p:nvPr/>
        </p:nvCxnSpPr>
        <p:spPr>
          <a:xfrm>
            <a:off x="541008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4" name=""/>
          <p:cNvSpPr/>
          <p:nvPr/>
        </p:nvSpPr>
        <p:spPr>
          <a:xfrm>
            <a:off x="4726080" y="1814400"/>
            <a:ext cx="68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Un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72160" y="1357200"/>
            <a:ext cx="72864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72160" y="2728800"/>
            <a:ext cx="72864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85" idx="1"/>
            <a:endCxn id="86" idx="1"/>
          </p:cNvCxnSpPr>
          <p:nvPr/>
        </p:nvCxnSpPr>
        <p:spPr>
          <a:xfrm>
            <a:off x="567216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8" name=""/>
          <p:cNvCxnSpPr>
            <a:stCxn id="85" idx="3"/>
            <a:endCxn id="86" idx="3"/>
          </p:cNvCxnSpPr>
          <p:nvPr/>
        </p:nvCxnSpPr>
        <p:spPr>
          <a:xfrm>
            <a:off x="640080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9" name=""/>
          <p:cNvSpPr/>
          <p:nvPr/>
        </p:nvSpPr>
        <p:spPr>
          <a:xfrm>
            <a:off x="5640480" y="2500200"/>
            <a:ext cx="64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Main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49880" y="29750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01640" y="295740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88000" y="29750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40480" y="2957400"/>
            <a:ext cx="25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77120" y="1357200"/>
            <a:ext cx="65232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77120" y="2728800"/>
            <a:ext cx="6523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>
            <a:stCxn id="94" idx="1"/>
            <a:endCxn id="95" idx="1"/>
          </p:cNvCxnSpPr>
          <p:nvPr/>
        </p:nvCxnSpPr>
        <p:spPr>
          <a:xfrm>
            <a:off x="647712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" name=""/>
          <p:cNvCxnSpPr>
            <a:stCxn id="94" idx="3"/>
            <a:endCxn id="95" idx="3"/>
          </p:cNvCxnSpPr>
          <p:nvPr/>
        </p:nvCxnSpPr>
        <p:spPr>
          <a:xfrm>
            <a:off x="712944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8" name=""/>
          <p:cNvSpPr/>
          <p:nvPr/>
        </p:nvSpPr>
        <p:spPr>
          <a:xfrm>
            <a:off x="6445440" y="2500200"/>
            <a:ext cx="68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Un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38880" y="1281240"/>
            <a:ext cx="457200" cy="243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05880" y="1357200"/>
            <a:ext cx="80460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805880" y="3414600"/>
            <a:ext cx="8046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1"/>
            <a:endCxn id="101" idx="1"/>
          </p:cNvCxnSpPr>
          <p:nvPr/>
        </p:nvCxnSpPr>
        <p:spPr>
          <a:xfrm>
            <a:off x="7805880" y="1433520"/>
            <a:ext cx="360" cy="2057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3" name=""/>
          <p:cNvCxnSpPr>
            <a:stCxn id="100" idx="3"/>
            <a:endCxn id="101" idx="3"/>
          </p:cNvCxnSpPr>
          <p:nvPr/>
        </p:nvCxnSpPr>
        <p:spPr>
          <a:xfrm>
            <a:off x="8610480" y="1433520"/>
            <a:ext cx="360" cy="2057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4" name=""/>
          <p:cNvSpPr/>
          <p:nvPr/>
        </p:nvSpPr>
        <p:spPr>
          <a:xfrm>
            <a:off x="7781760" y="3033720"/>
            <a:ext cx="825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StopAllWa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/ Cl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458200" y="120492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860240" y="960480"/>
            <a:ext cx="100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Select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86400" y="2043000"/>
            <a:ext cx="1270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2233440"/>
            <a:ext cx="1657440" cy="495360"/>
          </a:xfrm>
          <a:custGeom>
            <a:avLst/>
            <a:gdLst/>
            <a:ahLst/>
            <a:rect l="l" t="t" r="r" b="b"/>
            <a:pathLst>
              <a:path w="1044" h="312">
                <a:moveTo>
                  <a:pt x="1044" y="0"/>
                </a:moveTo>
                <a:cubicBezTo>
                  <a:pt x="1033" y="17"/>
                  <a:pt x="1040" y="66"/>
                  <a:pt x="978" y="102"/>
                </a:cubicBezTo>
                <a:cubicBezTo>
                  <a:pt x="916" y="138"/>
                  <a:pt x="835" y="181"/>
                  <a:pt x="672" y="216"/>
                </a:cubicBezTo>
                <a:cubicBezTo>
                  <a:pt x="509" y="251"/>
                  <a:pt x="248" y="288"/>
                  <a:pt x="0" y="312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3870360"/>
            <a:ext cx="91440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68" idx="3"/>
            <a:endCxn id="109" idx="0"/>
          </p:cNvCxnSpPr>
          <p:nvPr/>
        </p:nvCxnSpPr>
        <p:spPr>
          <a:xfrm>
            <a:off x="3733920" y="2805120"/>
            <a:ext cx="360" cy="1065600"/>
          </a:xfrm>
          <a:prstGeom prst="straightConnector1">
            <a:avLst/>
          </a:prstGeom>
          <a:ln w="9360">
            <a:solidFill>
              <a:srgbClr val="0000ff"/>
            </a:solidFill>
            <a:prstDash val="dash"/>
            <a:miter/>
          </a:ln>
        </p:spPr>
      </p:cxnSp>
      <p:cxnSp>
        <p:nvCxnSpPr>
          <p:cNvPr id="111" name=""/>
          <p:cNvCxnSpPr>
            <a:stCxn id="56" idx="3"/>
            <a:endCxn id="109" idx="1"/>
          </p:cNvCxnSpPr>
          <p:nvPr/>
        </p:nvCxnSpPr>
        <p:spPr>
          <a:xfrm flipH="1">
            <a:off x="4647600" y="2119320"/>
            <a:ext cx="1080" cy="1751400"/>
          </a:xfrm>
          <a:prstGeom prst="straightConnector1">
            <a:avLst/>
          </a:prstGeom>
          <a:ln w="9360">
            <a:solidFill>
              <a:srgbClr val="0000ff"/>
            </a:solidFill>
            <a:prstDash val="dash"/>
            <a:miter/>
          </a:ln>
        </p:spPr>
      </p:cxnSp>
      <p:sp>
        <p:nvSpPr>
          <p:cNvPr id="112" name=""/>
          <p:cNvSpPr/>
          <p:nvPr/>
        </p:nvSpPr>
        <p:spPr>
          <a:xfrm>
            <a:off x="4939920" y="3946680"/>
            <a:ext cx="3462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この区間では、２つの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Stag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が同時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Activ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になってい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この間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App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が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Invalidate / Restor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された場合（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Alt+Enter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など）は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も忘れず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Invalidate / Restor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すること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※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この区間では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App::stageID == STAGE_NOWLOADING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であ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※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DTX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は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App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の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Child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なので、自動的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Invalidate / Restor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120492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5360" y="960480"/>
            <a:ext cx="107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Select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180720"/>
            <a:ext cx="8686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ctivate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先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228600"/>
            <a:ext cx="2209680" cy="459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最終更新： 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2006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月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31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適用： </a:t>
            </a: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064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05440" y="249876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ff"/>
                </a:solidFill>
                <a:latin typeface="Arial"/>
              </a:rPr>
              <a:t>先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86280" y="3946680"/>
            <a:ext cx="447480" cy="442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51400" y="5241960"/>
            <a:ext cx="363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StageNowLoading::UnActivate()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alid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呼ば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→　先行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ctiv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した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も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alid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されてしまう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81720" y="5638680"/>
            <a:ext cx="5135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CStageNowLoading::UnActivate()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するまえに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g_App::stageID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を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STAGE_PLAY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に変えてしまう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ことで区別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_NOWLOADIN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ときだけ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を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alid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する。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219320" y="5257800"/>
            <a:ext cx="447480" cy="442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 flipH="1">
            <a:off x="3123720" y="4495680"/>
            <a:ext cx="83844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971440" y="2133720"/>
            <a:ext cx="2057400" cy="29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5638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76040" y="592200"/>
            <a:ext cx="330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ctiv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には（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WAV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などで）時間がかかるので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NowLoadin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中に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0880" y="457200"/>
            <a:ext cx="12207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D3DMy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121932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onfi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1676520"/>
            <a:ext cx="1220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DirectInput (D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3124080"/>
            <a:ext cx="1220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SoundManager (S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133720"/>
            <a:ext cx="1220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MIDIInput (M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2590920"/>
            <a:ext cx="12207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MIDIOutput (M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581280"/>
            <a:ext cx="1220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Timer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31240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ystemSoun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4572000"/>
            <a:ext cx="220968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DT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121932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167652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sP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457200"/>
            <a:ext cx="122076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EnumSco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84760" y="22860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11560" y="27432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O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13360" y="32004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4760" y="38098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13360" y="42670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4760" y="48006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Play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4760" y="52578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Play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5791320"/>
            <a:ext cx="12207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Resu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4800600"/>
            <a:ext cx="1067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SoundMana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5029200"/>
            <a:ext cx="1065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TextureMana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5257800"/>
            <a:ext cx="1065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SurfaceMana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28" idx="3"/>
            <a:endCxn id="136" idx="1"/>
          </p:cNvCxnSpPr>
          <p:nvPr/>
        </p:nvCxnSpPr>
        <p:spPr>
          <a:xfrm>
            <a:off x="1753920" y="1866600"/>
            <a:ext cx="5324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0" name=""/>
          <p:cNvCxnSpPr>
            <a:stCxn id="130" idx="3"/>
            <a:endCxn id="136" idx="1"/>
          </p:cNvCxnSpPr>
          <p:nvPr/>
        </p:nvCxnSpPr>
        <p:spPr>
          <a:xfrm flipV="1">
            <a:off x="1753920" y="1866600"/>
            <a:ext cx="532440" cy="457920"/>
          </a:xfrm>
          <a:prstGeom prst="bentConnector3">
            <a:avLst>
              <a:gd name="adj1" fmla="val 4979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457200" y="762120"/>
            <a:ext cx="10666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D3DDispl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57913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hip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31240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ults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62520" y="1523880"/>
            <a:ext cx="106812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Song 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62520" y="762120"/>
            <a:ext cx="106524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SetD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990720"/>
            <a:ext cx="106524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BoxD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6095880"/>
            <a:ext cx="106524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coreIn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1219320"/>
            <a:ext cx="106524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Songs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4120" y="1905120"/>
            <a:ext cx="9126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2920" y="4191120"/>
            <a:ext cx="23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別モノ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1676520" y="3428640"/>
            <a:ext cx="380880" cy="76212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676520" y="4419720"/>
            <a:ext cx="380880" cy="45720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55627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ヘッダ情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60199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PM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62485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WAV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55627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MP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57913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MPTEX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60199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GA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62485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GAPAN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81080" y="556272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AVI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5791320"/>
            <a:ext cx="533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Av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"/>
          <p:cNvCxnSpPr>
            <a:stCxn id="129" idx="3"/>
            <a:endCxn id="133" idx="1"/>
          </p:cNvCxnSpPr>
          <p:nvPr/>
        </p:nvCxnSpPr>
        <p:spPr>
          <a:xfrm>
            <a:off x="1753920" y="3314520"/>
            <a:ext cx="5324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838080" y="2819520"/>
            <a:ext cx="533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HMIDI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4120" y="1523880"/>
            <a:ext cx="9126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So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54" idx="3"/>
            <a:endCxn id="174" idx="1"/>
          </p:cNvCxnSpPr>
          <p:nvPr/>
        </p:nvCxnSpPr>
        <p:spPr>
          <a:xfrm>
            <a:off x="5030280" y="1638000"/>
            <a:ext cx="304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sm" type="oval" w="sm"/>
          </a:ln>
        </p:spPr>
      </p:cxnSp>
      <p:cxnSp>
        <p:nvCxnSpPr>
          <p:cNvPr id="176" name=""/>
          <p:cNvCxnSpPr>
            <a:stCxn id="174" idx="2"/>
            <a:endCxn id="159" idx="0"/>
          </p:cNvCxnSpPr>
          <p:nvPr/>
        </p:nvCxnSpPr>
        <p:spPr>
          <a:xfrm flipV="1" rot="10800000">
            <a:off x="5790600" y="17521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sm" type="oval" w="sm"/>
          </a:ln>
        </p:spPr>
      </p:cxnSp>
      <p:sp>
        <p:nvSpPr>
          <p:cNvPr id="177" name=""/>
          <p:cNvSpPr/>
          <p:nvPr/>
        </p:nvSpPr>
        <p:spPr>
          <a:xfrm>
            <a:off x="5871240" y="838080"/>
            <a:ext cx="12438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リスト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EnumScores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持ってい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952880" y="1066680"/>
            <a:ext cx="914400" cy="53352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10200" y="5410080"/>
            <a:ext cx="1024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～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.score.ini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Result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で管理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952880" y="5638680"/>
            <a:ext cx="914400" cy="53352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41400" y="4183200"/>
            <a:ext cx="1743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ＭＳ ゴシック"/>
              </a:rPr>
              <a:t>063b</a:t>
            </a:r>
            <a:r>
              <a:rPr b="0" lang="zh-CN" sz="3200" spc="-1" strike="noStrike">
                <a:solidFill>
                  <a:srgbClr val="ff0000"/>
                </a:solidFill>
                <a:latin typeface="ＭＳ ゴシック"/>
              </a:rPr>
              <a:t>以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62120" y="76212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EnumSco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リストを作成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ongs.db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15238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2" idx="2"/>
            <a:endCxn id="183" idx="0"/>
          </p:cNvCxnSpPr>
          <p:nvPr/>
        </p:nvCxnSpPr>
        <p:spPr>
          <a:xfrm flipV="1" rot="10800000">
            <a:off x="1523160" y="12189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2743200" y="15238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O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Config.ini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22096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onfig.ini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83" idx="3"/>
            <a:endCxn id="185" idx="1"/>
          </p:cNvCxnSpPr>
          <p:nvPr/>
        </p:nvCxnSpPr>
        <p:spPr>
          <a:xfrm>
            <a:off x="2286000" y="175212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8" name=""/>
          <p:cNvCxnSpPr>
            <a:stCxn id="183" idx="3"/>
            <a:endCxn id="186" idx="1"/>
          </p:cNvCxnSpPr>
          <p:nvPr/>
        </p:nvCxnSpPr>
        <p:spPr>
          <a:xfrm>
            <a:off x="2286000" y="1752120"/>
            <a:ext cx="457920" cy="6865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2743200" y="28954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tageEnumScores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の持つ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リストを参照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83" idx="3"/>
            <a:endCxn id="189" idx="1"/>
          </p:cNvCxnSpPr>
          <p:nvPr/>
        </p:nvCxnSpPr>
        <p:spPr>
          <a:xfrm>
            <a:off x="2286000" y="175248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2743200" y="365760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曲を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g_DTX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に読み込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24280" y="4343400"/>
            <a:ext cx="1524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Play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05720" y="365760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Resu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～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.score.ini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results.db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89" idx="2"/>
            <a:endCxn id="191" idx="0"/>
          </p:cNvCxnSpPr>
          <p:nvPr/>
        </p:nvCxnSpPr>
        <p:spPr>
          <a:xfrm flipV="1" rot="10800000">
            <a:off x="3504600" y="3352320"/>
            <a:ext cx="108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91" idx="3"/>
            <a:endCxn id="196" idx="1"/>
          </p:cNvCxnSpPr>
          <p:nvPr/>
        </p:nvCxnSpPr>
        <p:spPr>
          <a:xfrm>
            <a:off x="4267080" y="388584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1" idx="3"/>
            <a:endCxn id="192" idx="1"/>
          </p:cNvCxnSpPr>
          <p:nvPr/>
        </p:nvCxnSpPr>
        <p:spPr>
          <a:xfrm>
            <a:off x="4267080" y="3885840"/>
            <a:ext cx="457920" cy="6865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96" idx="3"/>
            <a:endCxn id="193" idx="1"/>
          </p:cNvCxnSpPr>
          <p:nvPr/>
        </p:nvCxnSpPr>
        <p:spPr>
          <a:xfrm>
            <a:off x="6248520" y="388584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92" idx="3"/>
            <a:endCxn id="193" idx="1"/>
          </p:cNvCxnSpPr>
          <p:nvPr/>
        </p:nvCxnSpPr>
        <p:spPr>
          <a:xfrm flipV="1">
            <a:off x="6248520" y="3885480"/>
            <a:ext cx="457920" cy="6865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92" idx="0"/>
          </p:cNvCxnSpPr>
          <p:nvPr/>
        </p:nvCxnSpPr>
        <p:spPr>
          <a:xfrm flipV="1" rot="16200000">
            <a:off x="4357800" y="3214800"/>
            <a:ext cx="1045440" cy="121212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4724280" y="3657600"/>
            <a:ext cx="1524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Play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67760" y="3276720"/>
            <a:ext cx="42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演奏中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"/>
          <p:cNvCxnSpPr>
            <a:stCxn id="193" idx="0"/>
            <a:endCxn id="189" idx="3"/>
          </p:cNvCxnSpPr>
          <p:nvPr/>
        </p:nvCxnSpPr>
        <p:spPr>
          <a:xfrm flipV="1" rot="16200000">
            <a:off x="5600160" y="1789920"/>
            <a:ext cx="534240" cy="3201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762120" y="22096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Game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83" idx="2"/>
            <a:endCxn id="203" idx="0"/>
          </p:cNvCxnSpPr>
          <p:nvPr/>
        </p:nvCxnSpPr>
        <p:spPr>
          <a:xfrm flipV="1" rot="10800000">
            <a:off x="1523160" y="198072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" name=""/>
          <p:cNvSpPr/>
          <p:nvPr/>
        </p:nvSpPr>
        <p:spPr>
          <a:xfrm>
            <a:off x="7010280" y="4495680"/>
            <a:ext cx="685800" cy="304920"/>
          </a:xfrm>
          <a:prstGeom prst="wedgeRectCallout">
            <a:avLst>
              <a:gd name="adj1" fmla="val 14583"/>
              <a:gd name="adj2" fmla="val -19010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ＭＳ ゴシック"/>
              </a:rPr>
              <a:t>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00200" y="4800600"/>
            <a:ext cx="2209680" cy="739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45" y="3337"/>
                </a:moveTo>
                <a:lnTo>
                  <a:pt x="-2622" y="3337"/>
                </a:lnTo>
                <a:lnTo>
                  <a:pt x="-2622" y="-30592"/>
                </a:lnTo>
                <a:lnTo>
                  <a:pt x="18450" y="-38240"/>
                </a:lnTo>
              </a:path>
            </a:pathLst>
          </a:custGeom>
          <a:solidFill>
            <a:srgbClr val="ffff99"/>
          </a:solidFill>
          <a:ln w="9360">
            <a:solidFill>
              <a:srgbClr val="3366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選曲画面からの出力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StageSelect::GetPlayScore()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で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演奏する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core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と難易度レベルを取得す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（どのみち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も使うので、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core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をナマで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渡したりはしない。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2362320"/>
            <a:ext cx="1600200" cy="473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029" y="5219"/>
                </a:moveTo>
                <a:lnTo>
                  <a:pt x="-5293" y="5219"/>
                </a:lnTo>
                <a:lnTo>
                  <a:pt x="-5293" y="56972"/>
                </a:lnTo>
                <a:lnTo>
                  <a:pt x="-4971" y="69149"/>
                </a:lnTo>
              </a:path>
            </a:pathLst>
          </a:custGeom>
          <a:solidFill>
            <a:srgbClr val="ffff99"/>
          </a:solidFill>
          <a:ln w="9360">
            <a:solidFill>
              <a:srgbClr val="3366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読み込み画面からの出力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DTX ←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演奏するデータ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029200" y="5410080"/>
            <a:ext cx="28954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68" y="3600"/>
                </a:moveTo>
                <a:lnTo>
                  <a:pt x="25733" y="3600"/>
                </a:lnTo>
                <a:lnTo>
                  <a:pt x="25733" y="-29200"/>
                </a:lnTo>
                <a:lnTo>
                  <a:pt x="11309" y="-37700"/>
                </a:lnTo>
              </a:path>
            </a:pathLst>
          </a:custGeom>
          <a:solidFill>
            <a:srgbClr val="ffff99"/>
          </a:solidFill>
          <a:ln w="9360">
            <a:solidFill>
              <a:srgbClr val="3366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演奏画面からの出力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DT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Result.m_ScoreIni (StagePlayD/G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から設定済み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PlayD.m_ActChips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（空うち用特例参照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433560" y="762120"/>
            <a:ext cx="1743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ＭＳ ゴシック"/>
              </a:rPr>
              <a:t>063b</a:t>
            </a:r>
            <a:r>
              <a:rPr b="0" lang="zh-CN" sz="3200" spc="-1" strike="noStrike">
                <a:solidFill>
                  <a:srgbClr val="ff0000"/>
                </a:solidFill>
                <a:latin typeface="ＭＳ ゴシック"/>
              </a:rPr>
              <a:t>以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enji</cp:lastModifiedBy>
  <dcterms:modified xsi:type="dcterms:W3CDTF">2006-12-31T05:52:00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