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91F-6FE4-4601-BAD7-8AE46ACE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676-16B6-482F-9E19-020FD65C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771-415C-4480-8403-886B17DA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91A-7AF2-40F0-8426-EF4B894C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F6F-0D29-428A-A09E-BE40C037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4E0-7AFC-446E-9BC0-C91715A5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AA3-A89E-4CA2-A4F3-72458765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9DA-666A-4B93-9E71-C027CB04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939-CD7B-4C89-AC81-87F5A12A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54C-BE96-4159-BCDB-1AC5604A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BEB-AF5B-4E84-928E-5BC0A3CF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0E8-FE6E-4055-988C-F72C403D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BA32-F688-4DB1-A879-222731884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" y="665280"/>
            <a:ext cx="8848800" cy="5522040"/>
            <a:chOff x="128520" y="665280"/>
            <a:chExt cx="8848800" cy="5522040"/>
          </a:xfrm>
        </p:grpSpPr>
        <p:sp>
          <p:nvSpPr>
            <p:cNvPr id="42" name=""/>
            <p:cNvSpPr/>
            <p:nvPr/>
          </p:nvSpPr>
          <p:spPr>
            <a:xfrm>
              <a:off x="191880" y="80244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696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機能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5588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696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スト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696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プログラ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1624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4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16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ff3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設計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モックアッ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32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画面遷移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2" idx="2"/>
              <a:endCxn id="43" idx="1"/>
            </p:cNvCxnSpPr>
            <p:nvPr/>
          </p:nvCxnSpPr>
          <p:spPr>
            <a:xfrm rot="5400000">
              <a:off x="432720" y="1681920"/>
              <a:ext cx="923400" cy="395280"/>
            </a:xfrm>
            <a:prstGeom prst="bentConnector4">
              <a:avLst>
                <a:gd name="adj1" fmla="val 33307"/>
                <a:gd name="adj2" fmla="val 1586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43" idx="3"/>
              <a:endCxn id="44" idx="1"/>
            </p:cNvCxnSpPr>
            <p:nvPr/>
          </p:nvCxnSpPr>
          <p:spPr>
            <a:xfrm>
              <a:off x="2496960" y="2340720"/>
              <a:ext cx="3592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3"/>
              <a:endCxn id="47" idx="1"/>
            </p:cNvCxnSpPr>
            <p:nvPr/>
          </p:nvCxnSpPr>
          <p:spPr>
            <a:xfrm>
              <a:off x="465588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7" idx="3"/>
              <a:endCxn id="46" idx="1"/>
            </p:cNvCxnSpPr>
            <p:nvPr/>
          </p:nvCxnSpPr>
          <p:spPr>
            <a:xfrm>
              <a:off x="681660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5" idx="0"/>
              <a:endCxn id="46" idx="2"/>
            </p:cNvCxnSpPr>
            <p:nvPr/>
          </p:nvCxnSpPr>
          <p:spPr>
            <a:xfrm flipV="1">
              <a:off x="8076960" y="2648520"/>
              <a:ext cx="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3"/>
              <a:endCxn id="49" idx="1"/>
            </p:cNvCxnSpPr>
            <p:nvPr/>
          </p:nvCxnSpPr>
          <p:spPr>
            <a:xfrm>
              <a:off x="4584600" y="370872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3" idx="2"/>
              <a:endCxn id="50" idx="1"/>
            </p:cNvCxnSpPr>
            <p:nvPr/>
          </p:nvCxnSpPr>
          <p:spPr>
            <a:xfrm flipH="1" rot="16200000">
              <a:off x="1044360" y="3201120"/>
              <a:ext cx="2293200" cy="11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endCxn id="48" idx="1"/>
            </p:cNvCxnSpPr>
            <p:nvPr/>
          </p:nvCxnSpPr>
          <p:spPr>
            <a:xfrm>
              <a:off x="2135520" y="2717640"/>
              <a:ext cx="649080" cy="991440"/>
            </a:xfrm>
            <a:prstGeom prst="bentConnector3">
              <a:avLst>
                <a:gd name="adj1" fmla="val 3213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0" idx="3"/>
              <a:endCxn id="51" idx="1"/>
            </p:cNvCxnSpPr>
            <p:nvPr/>
          </p:nvCxnSpPr>
          <p:spPr>
            <a:xfrm>
              <a:off x="4584600" y="4941360"/>
              <a:ext cx="5050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28520" y="665280"/>
              <a:ext cx="6904080" cy="52689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880" y="57276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Arial"/>
                  <a:ea typeface="HG創英角ｺﾞｼｯｸUB"/>
                </a:rPr>
                <a:t>仕様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594036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263700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6:48:27Z</dcterms:created>
  <dc:creator>ohtake</dc:creator>
  <dc:description/>
  <dc:language>en-US</dc:language>
  <cp:lastModifiedBy>ymurakami</cp:lastModifiedBy>
  <dcterms:modified xsi:type="dcterms:W3CDTF">2007-07-13T04:42:16Z</dcterms:modified>
  <cp:revision>6</cp:revision>
  <dc:subject/>
  <dc:title>スライド 1</dc:title>
</cp:coreProperties>
</file>