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4FF6-2B19-4388-BAC6-12EA5E2C6FB8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0338-9DD9-45CB-9E15-CA9710A8B6C7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FBF7-E96D-4ED2-A60B-DA88CD96D5C9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26C9-7D9F-4350-9992-618245EA96DB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4564-582A-4954-B4CB-8A4AB3EB3187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8E1C-40AA-4259-8FDD-F3116422F337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F82B-34CD-4E7B-86DC-D520133BCF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7FA3-1102-41FA-A369-C5D3894198F0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8448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5600" y="4287600"/>
            <a:ext cx="8448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560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96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02200" y="207936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58800" y="207936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5600" y="428760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02200" y="428760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58800" y="428760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0C34-E35E-48F6-BBB8-C0F7BBABC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45600" y="2079360"/>
            <a:ext cx="844884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24CE-CC26-4BF6-A6D3-4F6B223B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844884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7379-7AD7-41B3-935F-1D66209F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C2F4-2D8C-411D-8398-28AD255D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58CD-E72C-47CF-8C51-81C203A7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45600" y="1279440"/>
            <a:ext cx="8448840" cy="322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3B7B-8413-4225-990F-3567A60B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4560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29CF-604A-4F81-B611-E252B843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5600" y="2079360"/>
            <a:ext cx="844884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96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6EB0-81DD-4B86-ACE5-C9DC968F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45600" y="4287600"/>
            <a:ext cx="8448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CE89-080A-420F-BFFC-B858BB82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8448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45600" y="4287600"/>
            <a:ext cx="8448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4946-C088-42C3-9B74-B271C108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4560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96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9C34-4FA3-4F11-9990-1A0A9690B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02200" y="207936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58800" y="207936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45600" y="428760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02200" y="428760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58800" y="428760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48B6-E2BB-489B-ABD6-D8E3F28F3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844884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5600" y="1279440"/>
            <a:ext cx="8448840" cy="322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560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96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5600" y="4287600"/>
            <a:ext cx="8448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5600" y="2079360"/>
            <a:ext cx="844884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7" descr="ENU_Logo_be0f34.png"/>
          <p:cNvPicPr/>
          <p:nvPr/>
        </p:nvPicPr>
        <p:blipFill>
          <a:blip r:embed="rId2"/>
          <a:stretch/>
        </p:blipFill>
        <p:spPr>
          <a:xfrm>
            <a:off x="6594480" y="352440"/>
            <a:ext cx="2200320" cy="54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2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Arial"/>
              </a:rPr>
              <a:t>CSN11109 - Lecture 2: Storage De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A638-0940-47DF-961A-CF7D7DD3A3A5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SN08101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igital Forensics</a:t>
            </a:r>
            <a:br>
              <a:rPr sz="32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cture 8: File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e Leader: Dr Gordon Russ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rs: Robert Ludwini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le Encryption Key Encryp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393840" y="2419200"/>
            <a:ext cx="8472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K is encrypted with user’s public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K is decrypted with user’s private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policy allows it, FEK is also encrypted with public key of recovery agent (and decrypted with private key of recovery ag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FS Analysis Conside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334800" y="2233440"/>
            <a:ext cx="8485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y default a user’s private key is stored in the Windows registry, encrypted with login password as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Login password is susceptible to brute force attack and private key might be comprom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FS creates a temporary file (EFS0.TMP) with plaintex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arks it as deleted when finished but doesn’t actually erase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lternate Data Strea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334800" y="2489040"/>
            <a:ext cx="8439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a added to a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ed to support Macintosh files that have a data and resource f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most impossible to detect with normal file browsing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favourite of hackers and crimi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le System Metadata 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45600" y="2349360"/>
            <a:ext cx="844884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les that store file system administrat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not confuse with file meta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16 MFT entries reserved for files that describe the file system listed in the roo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file begins with ‘$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28680" y="2046240"/>
          <a:ext cx="8381880" cy="4246560"/>
        </p:xfrm>
        <a:graphic>
          <a:graphicData uri="http://schemas.openxmlformats.org/drawingml/2006/table">
            <a:tbl>
              <a:tblPr/>
              <a:tblGrid>
                <a:gridCol w="1257120"/>
                <a:gridCol w="1886040"/>
                <a:gridCol w="5238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M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FT e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MFTMi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up of the M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Log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s journal information for metadata trans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Volu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me Information: label, identifier, ver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AttrDe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ibute information: identifier values, name, siz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 directory of the files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Bit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s allocation status for each clu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B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s the boot c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BadC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s clusters that have bad sec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6920" y="88092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le System Metadata 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aster File Ta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324000" y="2233440"/>
            <a:ext cx="84502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ains information about all files and 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ery file and directory has at least one entry in th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entry is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1 KB i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ntry header is first 42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maining bytes store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sident and Non-Resident Attribu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301680" y="2327400"/>
            <a:ext cx="8529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resident attribute stores its content in the MFT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non-resident attribute stores its content in external clu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n resident attributes are stored in cluster r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attribute header gives the starting cluster address and its run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5600" y="869760"/>
            <a:ext cx="844884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ata Structure Catego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10960" y="1735200"/>
          <a:ext cx="8704440" cy="4795920"/>
        </p:xfrm>
        <a:graphic>
          <a:graphicData uri="http://schemas.openxmlformats.org/drawingml/2006/table">
            <a:tbl>
              <a:tblPr/>
              <a:tblGrid>
                <a:gridCol w="1451160"/>
                <a:gridCol w="1227240"/>
                <a:gridCol w="1171440"/>
                <a:gridCol w="1841400"/>
                <a:gridCol w="1562400"/>
                <a:gridCol w="1450800"/>
              </a:tblGrid>
              <a:tr h="938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4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Boot, $Volume, $AttrDe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s, $Bit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MFT, $MFTMirr, $STANDARD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, $DATA, $ATTRIBUTE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, $SECURITY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FILE_NAME$IDX_ROOT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IDX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OCATION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BIT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k Quota, Journal, Change Jour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  <a:tr h="543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2"/>
          <p:cNvGraphicFramePr/>
          <p:nvPr/>
        </p:nvGraphicFramePr>
        <p:xfrm>
          <a:off x="228600" y="2595600"/>
          <a:ext cx="8785080" cy="18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95600"/>
                    <a:ext cx="878508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TFS Record Layou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TFS Reco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428760" y="2430360"/>
            <a:ext cx="8229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MFT record is addressed by a 48 bit MFT entry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entry has address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MFT entry has a 16 bit sequence number that is incremented when the entry is alloc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FT entry value and sequence number combined yield 64b file reference add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85640" y="226188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vestigativ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sis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TF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2/EX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ight Brace 1"/>
          <p:cNvSpPr/>
          <p:nvPr/>
        </p:nvSpPr>
        <p:spPr>
          <a:xfrm>
            <a:off x="5473800" y="2371680"/>
            <a:ext cx="255600" cy="1714680"/>
          </a:xfrm>
          <a:custGeom>
            <a:avLst/>
            <a:gdLst>
              <a:gd name="textAreaLeft" fmla="*/ 0 w 255600"/>
              <a:gd name="textAreaRight" fmla="*/ 92160 w 255600"/>
              <a:gd name="textAreaTop" fmla="*/ 6480 h 1714680"/>
              <a:gd name="textAreaBottom" fmla="*/ 170820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16200" y="10800"/>
                  <a:pt x="21600" y="10800"/>
                </a:cubicBezTo>
                <a:cubicBezTo>
                  <a:pt x="162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5811840" y="30225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st wee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TFS Reco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428760" y="2430360"/>
            <a:ext cx="8229600" cy="32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FT entry attributes are loosely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attribute is preceded by the attribute 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ttribute header identif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ype of 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FT Record Struc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1840" y="2260080"/>
            <a:ext cx="8448840" cy="37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0-0x03: Magic Number: "FILE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4-0x05: Offset to the update sequ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6-0x07: Number of entries in fixup ar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8-0x0f:  $LogFile Sequence Number (LS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10-0x11: Sequenc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12-0x13: Hard link 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14-0x15: Offset to first 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FT Record Struc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2200" y="2227320"/>
            <a:ext cx="864864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16-0x17: Flags: 0x01 record in use, 0x02 direc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18-0x1B: Used size of MFT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1C-0x1F: Allocated size of MFT e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20-0x27: File reference to the base FILE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28-0x29: Next attribute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2A-0x2B: (XP) Align to 4B bound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2C-0x2F: (XP) Number of this MFT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30-0x100: Attributes and fixup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0680" y="974520"/>
            <a:ext cx="844884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FT Attribute Layou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FT Header is always the s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0 Attribute Type Ident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4 Length of 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8 non-resident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9 length of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a offset to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c 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69360" y="669600"/>
            <a:ext cx="844884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FT List of Possible Attribu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38280" y="161784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in $AttrDef entry of MFT, but default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1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STANDARD_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2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ATTRIBUTE_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FILE_NAME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40 (NT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VOLUME_VERSION (2K) $OBJECT_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5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SECURITY_DESCRI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6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VOLUME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7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VOLUME_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8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9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INDEX_R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A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INDEX_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B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BIT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C0 (NT) $SYMBOLIC_LINK, (2K) $REPARSE_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D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EA_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E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EA0xF0NT$PROPERTY_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100(2K) $LOGGED_UTILITY_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6760" y="704520"/>
            <a:ext cx="844884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FT Attribut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447920" y="2209680"/>
          <a:ext cx="6858000" cy="4267440"/>
        </p:xfrm>
        <a:graphic>
          <a:graphicData uri="http://schemas.openxmlformats.org/drawingml/2006/table">
            <a:tbl>
              <a:tblPr/>
              <a:tblGrid>
                <a:gridCol w="1114200"/>
                <a:gridCol w="600120"/>
                <a:gridCol w="600120"/>
                <a:gridCol w="4543560"/>
              </a:tblGrid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 Creation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 Alteration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FT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 Read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S File Permis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number of ver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sion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wner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Text Box 145"/>
          <p:cNvSpPr/>
          <p:nvPr/>
        </p:nvSpPr>
        <p:spPr>
          <a:xfrm>
            <a:off x="990720" y="15238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Info Attribut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6705720" y="0"/>
            <a:ext cx="2438280" cy="1295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69360" y="31896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eating Fi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358920" y="1076400"/>
            <a:ext cx="82753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ad volume boot sector to locate MF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ad first entry in MFT to determine layout of MF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locate an MFT entry for the new fi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itialize MFT entry with $STANDARD_INFORMATION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heck MFT $Bitmap to find free clusters, using best-fit algorith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t corresponding $Bitmap bits to 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rite file content to clusters and update $DATA attribute with starting address of cluster run and run leng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ad root directory (MFT entry 5), traverse index, and find dir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ad $INDEX_ROOT attribute for dir1 and determine where file1.txt should g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reate new index entry; resort index tre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ter steps in $LogFile (as each step is ta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5760" y="653760"/>
            <a:ext cx="844884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leting Fi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"/>
          <p:cNvSpPr/>
          <p:nvPr/>
        </p:nvSpPr>
        <p:spPr>
          <a:xfrm>
            <a:off x="404640" y="1574640"/>
            <a:ext cx="81597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volume boot sector to locate M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first entry in MFT to determine layout of M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root directory (MFT entry 5), traverse index, and find dir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$INDEX_ROOT for dir1 entry and find file1.txt e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 filename entry from index; move other entries o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MFT $Bitmap entries to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ter steps in $LogFile (as each step is take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NTFS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4460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fsstat -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isplay general details of a file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"/>
          <p:cNvSpPr/>
          <p:nvPr/>
        </p:nvSpPr>
        <p:spPr>
          <a:xfrm>
            <a:off x="208080" y="1179360"/>
            <a:ext cx="435276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LE SYSTEM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le System Type: NT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olume Serial Number: 2A040574040543F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EM Name: NT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rsion: Windows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TADATA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rst Cluster of MFT: 3245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rst Cluster of MFT Mirror: 48685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ze of MFT Entries: 1024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ze of Index Records: 4096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ange: 0 - 145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ot Directory: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ctor Size: 5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luster Size: 20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tal Cluster Range: 0 - 9737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tal Sector Range: 0 - 38948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5600" y="16812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fsstat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continu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208080" y="1006560"/>
            <a:ext cx="8440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AttrDef Attribute Val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STANDARD_INFORMATION (16)   Size: 48-72   Flags: 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ATTRIBUTE_LIST (32)   Size: No Limit   Flags: Non-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FILE_NAME (48)   Size: 68-578   Flags: Resident,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OBJECT_ID (64)   Size: 0-256   Flags: 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SECURITY_DESCRIPTOR (80)   Size: No Limit   Flags: Non-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VOLUME_NAME (96)   Size: 2-256   Flags: 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VOLUME_INFORMATION (112)   Size: 12-12   Flags: 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DATA (128)   Size: No Limit   Flag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INDEX_ROOT (144)   Size: No Limit   Flags: 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INDEX_ALLOCATION (160)   Size: No Limit   Flags: Non-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BITMAP (176)   Size: No Limit   Flags: Non-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REPARSE_POINT (192)   Size: 0-16384   Flags: Non-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EA_INFORMATION (208)   Size: 8-8   Flags: 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EA (224)   Size: 0-65536   Flag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LOGGED_UTILITY_STREAM (256)   Size: 0-65536   Flags: Non-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3000" y="180720"/>
            <a:ext cx="844848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fls -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ist file and directory na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"/>
          <p:cNvSpPr/>
          <p:nvPr/>
        </p:nvSpPr>
        <p:spPr>
          <a:xfrm>
            <a:off x="243000" y="1109520"/>
            <a:ext cx="865800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4-128-4:    $AttrD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8-128-2:    $BadC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8-128-1:    $BadClus:$B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6-128-1:    $Bit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7-128-1:    $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/d 11-144-4:   $Ext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2-128-1:    $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0-128-1:    $M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1-128-1:    $MFTMir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9-128-8:    $Secure:$S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9-144-11:   $Secure:$S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9-144-14:   $Secure:$S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10-128-1:   $Up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3-128-3:    $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6679-128-1: AUTOEXEC.B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3052-128-3: boot.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5505-128-1: CONFIG.S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/d 3058-144-6: Documents and Se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3039-128-1: hiberfil.s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13377-128-3:        hpfr5550.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6680-128-1: IO.S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6681-128-1: MSDOS.S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3020-128-3: NTDETEC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3016-128-3: ntl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27-128-1:   pagefile.s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/d 3457-144-6: Program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/d 12728-144-1:        RECYC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/d 7611-144-1: System Volum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/d 28-144-6:   WIND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/d 14519:      $Orphan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4320" y="869760"/>
            <a:ext cx="844848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stat -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isplay details of a meta-data 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"/>
          <p:cNvSpPr/>
          <p:nvPr/>
        </p:nvSpPr>
        <p:spPr>
          <a:xfrm>
            <a:off x="173160" y="1973160"/>
            <a:ext cx="87278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FT Entry Header Val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ntry: 5505        Sequence: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LogFile Sequence Number: 156340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llocated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nks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TANDARD_INFORMATION Attribute Val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ags: 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Owner ID: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curity ID: 258 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d:        Mon Oct 21 16:56:44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 Modified:  Mon Oct 21 16:56:44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FT Modified:   Mon Oct 21 16:56:44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ccessed:       Mon Oct 21 16:56:44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6480" y="879120"/>
            <a:ext cx="844884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stat -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isplay details of a meta-data 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96840" y="1773360"/>
            <a:ext cx="8728200" cy="36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FILE_NAME Attribute Valu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ags: Arch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: CONFIG.S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MFT Entry: 5     Sequence: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llocated Size: 0       Actual Size: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d:        Mon Oct 21 16:56:44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 Modified:  Mon Oct 21 16:56:44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FT Modified:   Mon Oct 21 16:56:44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cessed:       Mon Oct 21 16:56:44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ttribut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: $STANDARD_INFORMATION (16-0)   Name: N/A   Resident   size: 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: $FILE_NAME (48-2)   Name: N/A   Resident   size: 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: $DATA (128-1)   Name: N/A   Resident   size: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85760" y="191880"/>
            <a:ext cx="844848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  <a:ea typeface="Arial"/>
              </a:rPr>
              <a:t>icat -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Output the contents of a file based on its inode numb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2"/>
          <p:cNvSpPr/>
          <p:nvPr/>
        </p:nvSpPr>
        <p:spPr>
          <a:xfrm>
            <a:off x="185760" y="882720"/>
            <a:ext cx="63104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00: 4649 4c45 3000 0300 2497 2b02 0000 0000  FILE0...$.+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10: 0100 0100 3800 0100 9801 0000 0004 0000  ....8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20: 0000 0000 0000 0000 0600 0000 0000 0000  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30: f000 0000 0000 0000 1000 0000 6000 0000  ............`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40: 0000 1800 0000 0000 4800 0000 1800 0000  ........H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50: c08e 3200 e478 c201 c08e 3200 e478 c201  ..2..x....2..x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60: c08e 3200 e478 c201 c08e 3200 e478 c201  ..2..x....2..x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70: 0600 0000 0000 0000 0000 0000 0000 0000  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80: 0000 0000 0001 0000 0000 0000 0000 0000  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90: 0000 0000 0000 0000 3000 0000 6800 0000  ........0...h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a0: 0000 1800 0000 0300 4a00 0000 1800 0100  ........J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b0: 0500 0000 0000 0500 c08e 3200 e478 c201  ..........2..x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c0: c08e 3200 e478 c201 c08e 3200 e478 c201  ..2..x....2..x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d0: c08e 3200 e478 c201 0040 0000 0000 0000  ..2..x...@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e0: 0040 0000 0000 0000 0600 0000 0000 0000  .@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f0: 0403 2400 4d00 4600 5400 0000 0000 0000  ..$.M.F.T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00: 8000 0000 4800 0000 0100 4000 0000 0100  ....H.....@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10: 0000 0000 0000 0000 5f1c 0000 0000 0000  ........_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20: 4000 0000 0000 0000 0000 e300 0000 0000  @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30: 00dc e200 0000 0000 00dc e200 0000 0000  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40: 3260 1cda f304 0080 b000 0000 4800 0000  2`..........H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50: 0100 4000 0000 0500 0000 0000 0000 0000  ..@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60: 0000 0000 0000 0000 4000 0000 0000 0000  ........@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70: 0008 0000 0000 0000 1807 0000 0000 0000  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80: 1807 0000 0000 0000 3101 d9f3 0400 0000  ........1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90: ffff ffff 0000 0000 006c 0000 0000 0000  .........l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a0: 006c 0000 0000 0000 3110 daf3 0400 0000  .l......1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b0: b000 0000 4800 0000 0100 4000 0000 0500  ....H.....@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c0: 0000 0000 0000 0000 0000 0000 0000 0000  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d0: 4000 0000 0000 0000 0008 0000 0000 0000  @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e0: 0800 0000 0000 0000 0800 0000 0000 0000  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f0: 3101 d9f3 0400 0000 ffff ffff 0000 f000  1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XT2/EXT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Ext2 and Ext3 are the default Linux fil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Ext3 is the new version of Ext2 and adds journaling mechanism, but the basic structures are the s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The metadata is stored throughout the file system, and the metadata which is associated with a file are stored “near”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File System Layou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The whole area is divided into several block groups, and block groups contains several block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 block group is used to store file metadata and file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14480" y="4548240"/>
          <a:ext cx="8915400" cy="1000080"/>
        </p:xfrm>
        <a:graphic>
          <a:graphicData uri="http://schemas.openxmlformats.org/drawingml/2006/table">
            <a:tbl>
              <a:tblPr/>
              <a:tblGrid>
                <a:gridCol w="892080"/>
                <a:gridCol w="890640"/>
                <a:gridCol w="892080"/>
                <a:gridCol w="890640"/>
                <a:gridCol w="892080"/>
                <a:gridCol w="892080"/>
                <a:gridCol w="890640"/>
                <a:gridCol w="892080"/>
                <a:gridCol w="890640"/>
                <a:gridCol w="892440"/>
              </a:tblGrid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Super Bl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Group Descr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Block Bit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Inode Bit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Inode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File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File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Block Bit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Inode Bit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文字方塊 6"/>
          <p:cNvSpPr/>
          <p:nvPr/>
        </p:nvSpPr>
        <p:spPr>
          <a:xfrm>
            <a:off x="1857240" y="40719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Block Group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字方塊 8"/>
          <p:cNvSpPr/>
          <p:nvPr/>
        </p:nvSpPr>
        <p:spPr>
          <a:xfrm>
            <a:off x="7286760" y="40719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Block Group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1876320" y="4475160"/>
            <a:ext cx="539136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etadata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Superblock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Ext2 superblock is located 1024 bytes from the start of the file system and is 1024 bytes in size. ( The first two sectors are used to store boot code if necess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ack up copies are typically stored in the first file data block of each block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t contains basic information of the file system, such as the block size, the total number of block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 System: NTF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ster File table grows, never shrin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-tree algorithm used for file tr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-“balances” file system tree when tree cha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ing or deleting a file can cause entire tree to change and can overwrite nodes that were marked as free but still had information in th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ts of attributes on files, can be confusing (e.g., which access time is the “official” one to u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useful attributes are MAC ti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ster File Table (MF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tains information about all files and directo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ach has at least one entry in the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etadata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Block Group Descriptor Tab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t contains a group descriptor data structure for every block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group descriptor stores the address of block bitmap and inode bitmap for the block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Bitma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block bitmap manages the allocation status of the blocks in th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inode bitmap manages the allocation status of the inodes in th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etadata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3"/>
          <p:cNvSpPr/>
          <p:nvPr/>
        </p:nvSpPr>
        <p:spPr>
          <a:xfrm>
            <a:off x="258840" y="3429000"/>
            <a:ext cx="1000080" cy="121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Super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4"/>
          <p:cNvSpPr/>
          <p:nvPr/>
        </p:nvSpPr>
        <p:spPr>
          <a:xfrm>
            <a:off x="1258920" y="3429000"/>
            <a:ext cx="1000080" cy="121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lock Desc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5"/>
          <p:cNvSpPr/>
          <p:nvPr/>
        </p:nvSpPr>
        <p:spPr>
          <a:xfrm>
            <a:off x="4214880" y="2071800"/>
            <a:ext cx="1143000" cy="121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lock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6"/>
          <p:cNvSpPr/>
          <p:nvPr/>
        </p:nvSpPr>
        <p:spPr>
          <a:xfrm>
            <a:off x="4214880" y="3500280"/>
            <a:ext cx="1143000" cy="121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lock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7"/>
          <p:cNvSpPr/>
          <p:nvPr/>
        </p:nvSpPr>
        <p:spPr>
          <a:xfrm>
            <a:off x="4214880" y="5429160"/>
            <a:ext cx="1143000" cy="121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lock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字方塊 8"/>
          <p:cNvSpPr/>
          <p:nvPr/>
        </p:nvSpPr>
        <p:spPr>
          <a:xfrm>
            <a:off x="4579920" y="4786200"/>
            <a:ext cx="5461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字方塊 9"/>
          <p:cNvSpPr/>
          <p:nvPr/>
        </p:nvSpPr>
        <p:spPr>
          <a:xfrm>
            <a:off x="3071880" y="2428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Group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字方塊 10"/>
          <p:cNvSpPr/>
          <p:nvPr/>
        </p:nvSpPr>
        <p:spPr>
          <a:xfrm>
            <a:off x="3071880" y="38577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Group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字方塊 11"/>
          <p:cNvSpPr/>
          <p:nvPr/>
        </p:nvSpPr>
        <p:spPr>
          <a:xfrm>
            <a:off x="3071880" y="5929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Group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1"/>
          <p:cNvSpPr/>
          <p:nvPr/>
        </p:nvSpPr>
        <p:spPr>
          <a:xfrm>
            <a:off x="5357880" y="2071800"/>
            <a:ext cx="1143000" cy="121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22"/>
          <p:cNvSpPr/>
          <p:nvPr/>
        </p:nvSpPr>
        <p:spPr>
          <a:xfrm>
            <a:off x="6500880" y="2071800"/>
            <a:ext cx="1143000" cy="121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23"/>
          <p:cNvSpPr/>
          <p:nvPr/>
        </p:nvSpPr>
        <p:spPr>
          <a:xfrm>
            <a:off x="5357880" y="3500280"/>
            <a:ext cx="1143000" cy="121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4"/>
          <p:cNvSpPr/>
          <p:nvPr/>
        </p:nvSpPr>
        <p:spPr>
          <a:xfrm>
            <a:off x="6500880" y="3500280"/>
            <a:ext cx="1143000" cy="121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25"/>
          <p:cNvSpPr/>
          <p:nvPr/>
        </p:nvSpPr>
        <p:spPr>
          <a:xfrm>
            <a:off x="5357880" y="5429160"/>
            <a:ext cx="1143000" cy="121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6"/>
          <p:cNvSpPr/>
          <p:nvPr/>
        </p:nvSpPr>
        <p:spPr>
          <a:xfrm>
            <a:off x="6500880" y="5429160"/>
            <a:ext cx="1143000" cy="121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Straight Arrow Connector 27"/>
          <p:cNvCxnSpPr>
            <a:stCxn id="176" idx="3"/>
            <a:endCxn id="181" idx="1"/>
          </p:cNvCxnSpPr>
          <p:nvPr/>
        </p:nvCxnSpPr>
        <p:spPr>
          <a:xfrm flipV="1">
            <a:off x="2259000" y="2613960"/>
            <a:ext cx="813600" cy="1423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Straight Arrow Connector 29"/>
          <p:cNvCxnSpPr>
            <a:stCxn id="176" idx="3"/>
            <a:endCxn id="182" idx="1"/>
          </p:cNvCxnSpPr>
          <p:nvPr/>
        </p:nvCxnSpPr>
        <p:spPr>
          <a:xfrm>
            <a:off x="2259000" y="4037040"/>
            <a:ext cx="813600" cy="7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Straight Arrow Connector 31"/>
          <p:cNvCxnSpPr>
            <a:stCxn id="176" idx="3"/>
            <a:endCxn id="183" idx="1"/>
          </p:cNvCxnSpPr>
          <p:nvPr/>
        </p:nvCxnSpPr>
        <p:spPr>
          <a:xfrm>
            <a:off x="2259000" y="4037040"/>
            <a:ext cx="813600" cy="2078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etadata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ode T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table contains the inodes that describes the files in th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od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Each inode corresponds to one file, and it stores file’s primary metadata, such as file’s size, ownership, and temporal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is typically 128 bytes in size and is allocated to each file and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ode Struc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399960" y="2208240"/>
            <a:ext cx="837432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etadata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45600" y="2125800"/>
            <a:ext cx="8448840" cy="32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ode Alloc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a new inode is for a non-directory file, Ext2 allocates an inode in the same block group as the parent direc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that group has no free inode or block, Ext2 uses a quadratic search (add powers of 2 to the current gro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quadratic search fails, Ext2 uses linear sea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etadata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ode Alloca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a new inode is for a directory, Ext2 tries to place it in a group that has not been used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Using total number of free inodes and blocks in the superblock, Ext2 calculates the average free inodes and blocks per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Ext2 searches each of the group and uses the first one whose free inodes and blocks are less than the aver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the pervious search fails, the group with the smallest number of directories is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dexing and Directo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0520" y="2072880"/>
            <a:ext cx="84582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n Ext2 is just like a regular file except it has a special type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content of directories is a list of directory entry data structure, which describes file name and inode add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length of directory entry varies from 1 to 255 by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re are two fields in the directory ent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Name length: the length of the fil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ecord length: the length of this directory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dexing and Directo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Directory entry alloc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Ext2 starts at the beginning of the directory and examines each directory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Calculate the actual record length and compare with the record length fie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If they are different, Ext2 can insert the new directory entry at the end of the current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Else, Ext2 appends the new entry to the end of the entry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Journa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 file system journaling records updates to the file system can be recovered after a cra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re are two modes of journal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Only metadata updates are recor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ll updates are recor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Journaling in Ext3 is done at block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first block in the journal is journal superblock, and it contains the first logging data address and its sequence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Journa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Updates are done in transactions, and each transaction has a sequence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Each transaction starts with a descriptor block that contains the transaction sequence number and a list of what blocks are being upd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Following the descriptor block are the updated blo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When the updates have been written to disk, a commit block is written with the same sequence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TFS Fea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243000" y="2303640"/>
            <a:ext cx="8658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action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le and folder per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k quo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arse points (used to link fi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arse file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e data str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NY QUESTIONS ..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parse 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474840" y="2349360"/>
            <a:ext cx="8032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usters that contain all zeros aren’t written to d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alysis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 deleted sparse file is hard to rec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f file system metadata is deleted or corrupted, a sparse file might not be recove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le Compres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369720" y="2419200"/>
            <a:ext cx="8310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a is broken into equal-sized compression units (e.g. 16 clust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attempt is made to compress each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s of a file may be compressed while other parts are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le Compression Analysis Conside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277920" y="2441520"/>
            <a:ext cx="8542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ingle file can use different compression methods (e.g. none, sparse, or variant of LZ7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very tools need to support decom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deleted compressed file is hard to rec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file system metadata is deleted or corrupted, a compressed file might not be recove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crypting File System (EF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324000" y="2511360"/>
            <a:ext cx="8485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s both symmetric key encryption (DESX) and asymmetric key encryption (R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nerates a single file encryption key (FEK) and encrypts file with FEK using DES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ores FEK with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14:02:06Z</dcterms:created>
  <dc:creator>ML</dc:creator>
  <dc:description/>
  <dc:language>en-US</dc:language>
  <cp:lastModifiedBy>Ludwiniak, Robert</cp:lastModifiedBy>
  <cp:lastPrinted>2012-03-05T15:05:56Z</cp:lastPrinted>
  <dcterms:modified xsi:type="dcterms:W3CDTF">2012-03-12T16:47:34Z</dcterms:modified>
  <cp:revision>179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Edinburgh Napier Word document</vt:lpwstr>
  </property>
  <property fmtid="{D5CDD505-2E9C-101B-9397-08002B2CF9AE}" pid="3" name="Document Description">
    <vt:lpwstr>Branded powerpoint template for creating Edinburgh Napier University presentations.</vt:lpwstr>
  </property>
  <property fmtid="{D5CDD505-2E9C-101B-9397-08002B2CF9AE}" pid="4" name="DocumentKeywords">
    <vt:lpwstr>branded, presentations, template, powerpoint, ppt</vt:lpwstr>
  </property>
</Properties>
</file>