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B0D-7A27-4DA4-83E4-E2B866BA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7EC-AF45-4BC9-A541-E8E26393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E27-AC05-4B01-908A-AED2BC04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F33-4DD0-43A2-BCD6-67B261A7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04C-4E96-478D-9BAA-D66D4623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A76-8076-4C3A-9088-A945B36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49D-5326-4F14-A0CC-168F4157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822-411A-4155-AC63-2ECF9158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C1C-A21C-43F2-9ED0-F7B1C639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63E-377A-42B1-9B23-2BB57146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743-0371-4552-B179-6CAD976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504-D47B-4B31-A721-4987C704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9759-813F-4AD5-92ED-CC4438B8D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griography.com/" TargetMode="External"/><Relationship Id="rId2" Type="http://schemas.openxmlformats.org/officeDocument/2006/relationships/hyperlink" Target="http://windowsir.blogspot.com/2010/02/mft-analysi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egriography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sir.blogspot.com/2010/02/mft-analysi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David Kovar, C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tool to parse $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s the attributes of each file in an NTFS fi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s really g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50 entries for each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other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- if the entry is val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- if the entry is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type - the type of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Sequence - the sequence number for th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Sequence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standard information attribu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up to four file name record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Volume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Domai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lags to show if each of the following attributes is 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formation, Attribute List, Filename, Object ID, Volume Name, Volume Info, Data, Index Root, Index Allocation, Bitmap, Reparse Point, EA Information, EA, Property Set, Logged Utility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/Log - Field used to log any significant events or observations relating to this rec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-fn-shift - Populated if anomaly detection is turned on. Y/N. Y indicates that the FN create date is later than the STD create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c-zero - Populated if anomaly detection is turned on. Y/N. Y indicates that the STD create date's microsecond value is zer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old you s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575","Good","Inactive","0","5422 - 5426","3","TRANSFERMGR.EXE-24D2A23F.pf","2009/12/27 18:35:57.625000","2009/12/28 05:32:01.390625","2009/12/27 18:35:57.625000","2009/12/28 05:32:01.390625","2009/12/27 18:35:57.625000","2009/12/27 18:35:57.625000","2009/12/27 18:35:57.625000","2009/12/27 18:35:57.625000","","","","","TRANSFERMGR.EXE-24D2A23F.pf","2009/12/27 18:35:57.625000","2009/12/27 18:35:57.625000","2009/12/27 18:35:57.625000","2009/12/27 18:35:57.625000","","","","","","","","","","","True","False","False","False","False","False","True","False","False","False","False","False","False","False","Fals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nalyzeMFT.py [option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, --help show this help message and ex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 FILE, --file=FILE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d MFT from F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FILE, --output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results to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, --anomaly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rn on anomaly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b FILE, --bodyfile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C information to body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, --gui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GUI for fi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d, --debu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urn on debugging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M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David Kov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iography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ython c:\bin\analyzeMFT.py –f ntfs.mft –o mf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2:31:27Z</dcterms:created>
  <dc:creator>Ackler</dc:creator>
  <dc:description/>
  <dc:language>en-US</dc:language>
  <cp:lastModifiedBy>Lynn</cp:lastModifiedBy>
  <dcterms:modified xsi:type="dcterms:W3CDTF">2012-10-23T17:43:34Z</dcterms:modified>
  <cp:revision>11</cp:revision>
  <dc:subject/>
  <dc:title>MFT Analysis</dc:title>
</cp:coreProperties>
</file>