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93B0-ACBB-4A0E-828C-A1FC3FB3B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5840-6D1C-4C71-BDD5-16CC8C82D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133A-E721-4E1F-AEE5-DBAE030DA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1373-8097-44D3-A1A3-4D9A7692D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F92F-9E4A-4BD5-B9BA-8D6305BFC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D1C2-51A6-493C-8B3E-FBCE4197E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4585-9866-418B-8EBD-C8A3B65F9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7548-5D52-44F0-AC55-5870D9B1C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907B-364C-49E5-9BAE-EA84BC14D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8B1C-F08C-4F2D-B261-40127920B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B1EC-BC5F-4B47-A9DC-8812E8BF5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D21C-0ACC-4099-820B-6ED525B86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06658-BC96-4670-82F3-E40D75E578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バッファ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4936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 u="sng">
                <a:solidFill>
                  <a:srgbClr val="000000"/>
                </a:solidFill>
                <a:uFillTx/>
                <a:latin typeface="Arial"/>
              </a:rPr>
              <a:t>TComVar 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1052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2000" y="1052640"/>
            <a:ext cx="216072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50920" y="907920"/>
            <a:ext cx="1368360" cy="2017800"/>
            <a:chOff x="250920" y="907920"/>
            <a:chExt cx="1368360" cy="2017800"/>
          </a:xfrm>
        </p:grpSpPr>
        <p:sp>
          <p:nvSpPr>
            <p:cNvPr id="46" name=""/>
            <p:cNvSpPr/>
            <p:nvPr/>
          </p:nvSpPr>
          <p:spPr>
            <a:xfrm>
              <a:off x="250920" y="9079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0920" y="1197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0920" y="14842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0920" y="1773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0920" y="206064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920" y="234936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0920" y="263700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 flipV="1">
            <a:off x="1619280" y="1052640"/>
            <a:ext cx="1512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3640" y="3068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空きあり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32000" y="1052640"/>
            <a:ext cx="2160720" cy="129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19280" y="1628640"/>
            <a:ext cx="1512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35640" y="105264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03640" y="76500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619280" y="184464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619280" y="1052640"/>
            <a:ext cx="151272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63640" y="422100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95280" y="4076640"/>
            <a:ext cx="1368360" cy="2017800"/>
            <a:chOff x="395280" y="4076640"/>
            <a:chExt cx="1368360" cy="2017800"/>
          </a:xfrm>
        </p:grpSpPr>
        <p:sp>
          <p:nvSpPr>
            <p:cNvPr id="63" name=""/>
            <p:cNvSpPr/>
            <p:nvPr/>
          </p:nvSpPr>
          <p:spPr>
            <a:xfrm>
              <a:off x="395280" y="407664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5280" y="43657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5280" y="4653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95280" y="494208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5280" y="5229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5280" y="55180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95280" y="580572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 flipV="1">
            <a:off x="1763640" y="4220640"/>
            <a:ext cx="1513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48000" y="623736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フル状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221000"/>
            <a:ext cx="2160360" cy="1872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63640" y="4797360"/>
            <a:ext cx="1513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8000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03640" y="393372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763640" y="501336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763640" y="5516280"/>
            <a:ext cx="1513080" cy="14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551664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32000" y="2205000"/>
            <a:ext cx="2160720" cy="144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105264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5373720"/>
            <a:ext cx="2160360" cy="144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2108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12000" y="1052640"/>
            <a:ext cx="215640" cy="1296720"/>
          </a:xfrm>
          <a:prstGeom prst="downArrow">
            <a:avLst>
              <a:gd name="adj1" fmla="val 50000"/>
              <a:gd name="adj2" fmla="val 1503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56360" y="14842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560920"/>
            <a:ext cx="216000" cy="604800"/>
          </a:xfrm>
          <a:prstGeom prst="downArrow">
            <a:avLst>
              <a:gd name="adj1" fmla="val 50000"/>
              <a:gd name="adj2" fmla="val 7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56360" y="57340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84720" y="6165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84720" y="6453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308720" y="3933360"/>
            <a:ext cx="0" cy="251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012000" y="393372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12000" y="3933720"/>
            <a:ext cx="0" cy="15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16720" y="2060640"/>
            <a:ext cx="2519280" cy="1584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リング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バッファフルの場合は最古の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から上書き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バッファ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共有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分が有効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データとな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採取とマクロ実行を同時に行う場合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同一値に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6:00:59Z</dcterms:modified>
  <cp:revision>114</cp:revision>
  <dc:subject/>
  <dc:title>DDEのしくみ</dc:title>
</cp:coreProperties>
</file>