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B958-E8DF-4A51-95B1-1EED646BE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AFAF-B087-4321-8A90-1F203DA3D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3222-FF82-4367-BFB7-6FC255718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5C4F-E684-45A0-B6F7-4F7247CF0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82C3-2107-4A99-8CF6-89BE8C258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8263-8B09-44F7-AF39-1AA0463A2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178E-F49B-47EC-BC28-AA8067787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6041-36A6-4676-B6B0-F66CB29F1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2EF8-E9F4-41D6-9E9C-E97FB093C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1C20-AA0D-451A-BA8C-87D783B04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4994-EA84-4878-AE54-57C7AF48F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B9D2-F214-4957-96E1-9888559B3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8FBDE-6ED3-45A5-8441-914616849F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low control between TeraTerm and Mac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te h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ermp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71640" y="1341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recei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is stored in the cyclic buffer. When the buffer is full, the oldest data is overwritten by the latest dat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 progra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pmac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ise lo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all buffer data is sent to the macro program while doing DDE advise loo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received DDE data is stored in the cyclic buff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5661000"/>
            <a:ext cx="4176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‘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setsync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’ macro command, this range is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chronization between TeraTerm and Macro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remote host sends a lot of packet to the client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cket lost will occ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10-15T16:03:10Z</dcterms:modified>
  <cp:revision>184</cp:revision>
  <dc:subject/>
  <dc:title>DDEのしくみ</dc:title>
</cp:coreProperties>
</file>