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A960E-9F6E-40F5-9E9B-4FBFB4D73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7860C-1716-4750-9711-EDDCE3A84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98144-541B-4A07-B6B6-789798071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66D55-B6C6-407C-BC63-B968C09A7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4E545-5372-4EEF-BD56-569F91AE3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13C0D-57EC-4212-AB12-34E67DD68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5279C-6D80-4702-8B7D-B51A54084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8C567-9B1E-4608-85E4-6A79E5E1A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D598C-0A80-4473-B490-A3050454D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6B619-8566-4D18-948A-C70E2A87B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C3E0A-BDFA-4135-9FBB-D70050F56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055AC-BB00-4F32-9958-CEC6F9098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792AC-E372-47F7-9903-37C964FC19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Flow control between TeraTerm and Mac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765000"/>
            <a:ext cx="115236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ote ho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5480" y="105264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122560" y="765000"/>
            <a:ext cx="230328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termpro.ex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98920" y="1052640"/>
            <a:ext cx="144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01840" y="1413000"/>
            <a:ext cx="1008360" cy="93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 buf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25480" y="1628640"/>
            <a:ext cx="187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71640" y="134136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 packet recei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98920" y="2133720"/>
            <a:ext cx="50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42920" y="2421000"/>
            <a:ext cx="1368360" cy="1152360"/>
          </a:xfrm>
          <a:prstGeom prst="wedgeRoundRectCallout">
            <a:avLst>
              <a:gd name="adj1" fmla="val 69143"/>
              <a:gd name="adj2" fmla="val -7424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 packet is stored in the cyclic buffer. When the buffer is full, the oldest data is overwritten by the latest dat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771640" y="2565360"/>
            <a:ext cx="648000" cy="503280"/>
          </a:xfrm>
          <a:custGeom>
            <a:avLst/>
            <a:gdLst>
              <a:gd name="textAreaLeft" fmla="*/ 86760 w 648000"/>
              <a:gd name="textAreaRight" fmla="*/ 561240 w 648000"/>
              <a:gd name="textAreaTop" fmla="*/ 87840 h 503280"/>
              <a:gd name="textAreaBottom" fmla="*/ 3650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19640" y="2637000"/>
            <a:ext cx="1079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>
                <a:solidFill>
                  <a:srgbClr val="000000"/>
                </a:solidFill>
                <a:latin typeface="Arial"/>
              </a:rPr>
              <a:t>XTYP_ADVRE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96000" y="765000"/>
            <a:ext cx="273672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cro program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tpmacro.ex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88000" y="1052640"/>
            <a:ext cx="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27640" y="1413000"/>
            <a:ext cx="144360" cy="936360"/>
          </a:xfrm>
          <a:custGeom>
            <a:avLst/>
            <a:gdLst>
              <a:gd name="textAreaLeft" fmla="*/ 0 w 144360"/>
              <a:gd name="textAreaRight" fmla="*/ 52200 w 144360"/>
              <a:gd name="textAreaTop" fmla="*/ 24120 h 936360"/>
              <a:gd name="textAreaBottom" fmla="*/ 91224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3280" y="191628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771640" y="3141720"/>
            <a:ext cx="1368720" cy="2872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vise loo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140360" y="328464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932360" y="191592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987640" y="3789360"/>
            <a:ext cx="1368360" cy="1008000"/>
          </a:xfrm>
          <a:prstGeom prst="wedgeRoundRectCallout">
            <a:avLst>
              <a:gd name="adj1" fmla="val -3944"/>
              <a:gd name="adj2" fmla="val -8464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all buffer data is sent to the macro program while doing DDE advise loo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308720" y="1413000"/>
            <a:ext cx="1079640" cy="21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 buf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6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588000" y="2276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76720" y="2565360"/>
            <a:ext cx="1368360" cy="934920"/>
          </a:xfrm>
          <a:prstGeom prst="wedgeRoundRectCallout">
            <a:avLst>
              <a:gd name="adj1" fmla="val 73087"/>
              <a:gd name="adj2" fmla="val -7733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received DDE data is stored in the cyclic buffer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1640" y="5300640"/>
            <a:ext cx="3816360" cy="216000"/>
          </a:xfrm>
          <a:prstGeom prst="leftRightArrow">
            <a:avLst>
              <a:gd name="adj1" fmla="val 50000"/>
              <a:gd name="adj2" fmla="val 35173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627280" y="5661000"/>
            <a:ext cx="4176720" cy="79236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‘</a:t>
            </a:r>
            <a:r>
              <a:rPr b="0" lang="en-US" sz="1200" spc="-1" strike="noStrike">
                <a:solidFill>
                  <a:srgbClr val="ff3300"/>
                </a:solidFill>
                <a:latin typeface="Arial"/>
              </a:rPr>
              <a:t>setsync 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’ macro command, this range is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nchronization between TeraTerm and Macro progr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remote host sends a lot of packet to the client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cket lost will occu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10-15T16:03:10Z</dcterms:modified>
  <cp:revision>184</cp:revision>
  <dc:subject/>
  <dc:title>DDEのしくみ</dc:title>
</cp:coreProperties>
</file>