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AF6E0-5A1A-4181-861E-BF461E75505E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52ABF-9EAB-46A1-9C8A-481070B649FC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000000"/>
                </a:solidFill>
                <a:latin typeface="Arial"/>
              </a:rPr>
              <a:t>Kuina</a:t>
            </a:r>
            <a:r>
              <a:rPr b="1" lang="ja-JP" sz="4400" spc="-1" strike="noStrike">
                <a:solidFill>
                  <a:srgbClr val="000000"/>
                </a:solidFill>
                <a:latin typeface="Arial"/>
              </a:rPr>
              <a:t>が魅せる</a:t>
            </a:r>
            <a:r>
              <a:rPr b="1" lang="ja-JP" sz="4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1" lang="ja-JP" sz="4400" spc="-1" strike="noStrike">
                <a:solidFill>
                  <a:srgbClr val="000000"/>
                </a:solidFill>
                <a:latin typeface="Arial"/>
              </a:rPr>
              <a:t>の近未来</a:t>
            </a:r>
            <a:br>
              <a:rPr sz="4400"/>
            </a:b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ひがやす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Seasar Pro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電通国際情報サービ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lum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loyee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olumn(name="ENAME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ring getEmployeeName(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turn en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loyee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Id(generate=SEQU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generator="EMPID_SEQ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int getId(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turn i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Vers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loyee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int getVersion(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turn versi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ransien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loyee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Trans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int getHoge(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turn hog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: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関連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2116080"/>
            <a:ext cx="3124440" cy="132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(P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52880" y="1752480"/>
            <a:ext cx="38102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(P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artment_id(F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neToMan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Department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OneToMany(mappedBy="department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otected Collection&lt;Employe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s = new HashSet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anyToOn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loyee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ManyTo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JoinColumn(name="DEPARTMENT_ID"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ferencedColumnName="ID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otected Department departmen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olumn(name="DEPARTMENT_ID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otected int departmentI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: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関連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1905120"/>
            <a:ext cx="3124080" cy="132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(P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52880" y="1905120"/>
            <a:ext cx="3810240" cy="132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(P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38280" y="3581280"/>
            <a:ext cx="3733920" cy="280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_Employ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(P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s_id(F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ees_id(F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anyToMan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own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360" y="990360"/>
            <a:ext cx="823104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Project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ManyTo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AssociationTable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able=@Table(name="PROJECT_EMPLOYEE"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oinColumns={@JoinCololumn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ame="PROJECTS_ID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ferencedColumnName="ID")}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nverseJoinColumns={@JoinColumn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ame="EMPLOYEES_ID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ferencedColumnName="ID")}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otected Collection&lt;Employe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s = new HashSe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anyToMan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loyee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ManyToMany(mappedBy="employees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otected Collection&lt;Project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ojects = new HashSet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JB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って本当に使いやすい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前のバージョンと比べる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実装がシンプルになっ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アノテーションにより見通しがよくなっ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導入により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JNDI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をルックアップする必要がなくなっ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condaryTabl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SecondaryTable(name=“DEPARTMENT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JoinColumn(name="DEPARTMENT_ID"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ferencedColumnName="ID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loyee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olumn(name="DNAME"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econdaryTable="DEPARTMENT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otected String departmentN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uina Da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1196640"/>
            <a:ext cx="80787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アスペクトによる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EJBQL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Dao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の実装コードの自動生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2Way SQ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条件によって変わる動的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SQ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uinaDaoInterce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include path=“kuina.dicon”/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“…EmployeeDao”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spect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kuina.daoIntercep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全件取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llection&lt;Employee&gt; getEmployees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riter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riterion(columnName=“id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 getEmployeeById(int id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employeeid = ?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riter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riterion(columnName=“job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llection&lt;Employe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getEmployeesByJob(String job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job = ?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riter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riterion(columnName=“sal”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ype=CriterionType.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llection&lt;Employe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getEmployeesBySalary(BigDecimal sal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sal &gt;= ?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riter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CriterionTy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EQ(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デフォルト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G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L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riter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riterion(columnName=“ename”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ype=CriterionType.LIK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likeType=LikeType.BOT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llection&lt;Employe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getEmployeesByEname(String enam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ename LIKE %?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riter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LikeTy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BOTH(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デフォルト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JB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って本当に使いやすい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でも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アプリケーションサーバにデプロイしないと基本的にテストできな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機能も未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riterion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riterions(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riterion(columnName=“sal”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ype=CriterionType.GE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riterion(columnName=“sal”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ype=CriterionType.LE)}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llection&lt;Employee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getEmployeesBySalaryFromTo(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BigDecimal salFrom, BigDecimal salTo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sal &gt;= ?1 AND sal &lt;= ?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引数による動的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salFrom not null, salTo not nu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WHERE salFrom &gt;= ?1</a:t>
            </a:r>
            <a:br>
              <a:rPr sz="3200"/>
            </a:b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  AND salTo &lt;= ?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salFrom not null, salTo nu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WHERE salFrom &gt;= ?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salFrom null, salTo not nu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WHERE salTo &lt;= ?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salFrom null, salTo nu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句な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T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条件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loyeeSearchDto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riterion(columnName=“ename”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ype=CriterionType.LIK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likeType=LikeType.BOT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otected String employeeN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T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条件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llection&lt;Employe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getEmployeesByDto(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SearchDto dto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a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条件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キーはカラム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値は検索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条件は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CriterionType.E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&lt;T&gt;T merge(T entit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persistence context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に関連付けられていない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persistence context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に関連付け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insert,updat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が実際に行われるのはトランザクションがコミットされる直前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関連オブジェクトも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merg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され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cascade=MERGE or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void remove(Object entit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removed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な状態にす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delet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が実際に行われるのはトランザクションがコミットされる直前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関連オブジェクトも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remov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され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cascade=REMOVE or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Quer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NamedQuery(queryString="SELECT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FROM Department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OIN FETCH d.employ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d.id = ?1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epartment getDepartment(int id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Quer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外部ファイル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218960"/>
            <a:ext cx="8231040" cy="52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クラス名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getDepartment.ejbq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ELECT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FROM Department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OIN FETCH d.employ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d.id = ?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Way SQ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外部ファイル化した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ファイル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SQL*Plus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等のツールでそのまま実行でき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NamedQuery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アノテーションの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queryString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としても使え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開発者と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開発者の分業が可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私からのメッセー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テストしにくい開発環境・フレームワークなんかくそくら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実装の正しさはテストによってのみ確かめられ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バインド変数コメ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Dao_getEmployee.sq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ELECT * FROM e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id = /*?1*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 getEmployee(int id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バインド変数コメ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ELECT * FROM e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job IN /*?1*/('CLERK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llection&lt;Employee&gt; getEmployees(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tring[] job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埋め込み変数コメ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57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ELECT * FROM e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id = /*$1*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引数に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を渡すとバインド変数ではなく文字として値が埋め込まれ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ELECT * FROM e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id =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変数コメ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ELECT * FROM e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job = 'CLERK'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IF ?1 != null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al &gt;= /*?1*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END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EGI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変数コメ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ELECT * FROM e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BEGIN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IF ?1 != null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ob = /*?1*/'CLERK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END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IF ?2 != null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ND sal &gt;= /*?2*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END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END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uina St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Eclipse Plu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Mode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DaoM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SQL Cons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Data Trans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D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ベースとなる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抽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OneToMany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抽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SecondaryTable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抽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RelationShip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グラフィック表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Ent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と連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との差異チェック・同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リファクタリングサポー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DDL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出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各種データベースサポー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aoMa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メソッド作成支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による検索、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merge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remove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の自動作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特定のカラム、検索用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DTO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Map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での検索のウィザー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検索用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DTO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作成支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テスト支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KuinaUnit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のテストコードの自動作成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テスト用の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データの自動作成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SQL Console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との連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L Cons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EJBQL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実行環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テーブル名、エンティティ名、カラム名、プロパティ名、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EJBSQL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の補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検索結果を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Grid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表示し、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Grid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から直接データの更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Grid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に表示されたデータを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CSV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に保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DaoMaker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との連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自動生成される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EJBQL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NamedQuery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、外部ファイルを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Console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に表示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Console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上の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EJBQL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NamedQuery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、外部ファイルに保存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JB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って本当にだ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EntityBean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はよくできてい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TopLink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JDO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仕様をさらに洗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シンプルで覚えやす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アノテーションの記述量も最小限になるように工夫されてい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マルチデータベース間のデータ移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CSV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へのエクスポート、インポー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ご参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ひがやす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d.hatena.ne.jp/higayasuo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Seasar.o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JB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たいする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取り組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EntityBean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は採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MessageDrivenBean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は状況しだ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それら以外は不採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EntityBean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DIContainer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上で動か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uin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Kuina C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EJB3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EntityBean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実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Kuina Da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EntityBean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Kuina Stu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Kuina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用の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Eclipse Plugin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Table(name=“EMP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loyee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4-22T02:19:17Z</dcterms:modified>
  <cp:revision>187</cp:revision>
  <dc:subject/>
  <dc:title>スライド 1</dc:title>
</cp:coreProperties>
</file>