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15138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115920"/>
            <a:ext cx="2916360" cy="1203120"/>
          </a:xfrm>
          <a:prstGeom prst="rect">
            <a:avLst/>
          </a:prstGeom>
          <a:ln w="0">
            <a:noFill/>
          </a:ln>
        </p:spPr>
      </p:pic>
      <p:sp>
        <p:nvSpPr>
          <p:cNvPr id="1" name=""/>
          <p:cNvSpPr/>
          <p:nvPr/>
        </p:nvSpPr>
        <p:spPr>
          <a:xfrm>
            <a:off x="426708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267080" y="6597720"/>
            <a:ext cx="48769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8E3C-43F4-4A4F-AA41-44D2CB26E26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250920" y="1147680"/>
            <a:ext cx="4124160" cy="170496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343400" y="6642000"/>
            <a:ext cx="441972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-2005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419720" y="6597720"/>
            <a:ext cx="47242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03EDF-398C-4E0E-85BB-062F128B7C68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seasar.org/maya" TargetMode="External"/><Relationship Id="rId2" Type="http://schemas.openxmlformats.org/officeDocument/2006/relationships/hyperlink" Target="http://www.seasar.org/maya" TargetMode="External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 Black"/>
              </a:rPr>
              <a:t>S2JSF</a:t>
            </a:r>
            <a:br>
              <a:rPr sz="4400"/>
            </a:br>
            <a:r>
              <a:rPr b="1" lang="en-US" sz="28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556000" y="4365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he Seasar Pro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feature of S2JSF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emplate of the page is HTML, not JS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apestr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ayout solution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advantage of 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firmation of layout is eas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operation with designer is eas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TML Templat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The tag of HTML is converted to the tag of JSF at runti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HTML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value="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JSF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h:outputText value=" #{bean.property}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specify the tag explicitly</a:t>
            </a:r>
            <a:br>
              <a:rPr sz="2200"/>
            </a:br>
            <a:r>
              <a:rPr b="1" lang="ja-JP" sz="2200" spc="-1" strike="noStrike">
                <a:solidFill>
                  <a:srgbClr val="000000"/>
                </a:solidFill>
                <a:latin typeface="Arial"/>
              </a:rPr>
              <a:t>&lt;span m:inject="h:messages" m:globalOnly="true" m:class="error"/&gt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 solution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ilar to T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re intuitive and easy-to-us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yout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able border="0" cellspacing="5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colspan="2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header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width="140" valign="top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src="/WEB-INF/layout/menu.html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td valign="top" align="left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span m:inject="s:insert" m:name="body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&lt;/tabl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hello.htm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html xmlns:m="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seasar.org/</a:t>
            </a:r>
            <a:r>
              <a:rPr b="0" lang="ja-JP" sz="2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maya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"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m:extends="/WEB-INF/layout/layout.html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span m:inject="s:insert" m:name="body"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Hello &lt;span m:value="#{message}"/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spa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8920" y="365040"/>
            <a:ext cx="5762520" cy="40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onclu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SF becomes more ease to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he template of the page is HT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yout solu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33160" y="1197000"/>
            <a:ext cx="8380440" cy="489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Yasuwo Hig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higayasuwo.cocolog-nifty.com/blog/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iga@isid.co.j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.org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 Project(Japane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Arial"/>
              </a:rPr>
              <a:t>http://sourceforge.jp/projects/seas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higa</cp:lastModifiedBy>
  <dcterms:modified xsi:type="dcterms:W3CDTF">2005-03-07T11:13:07Z</dcterms:modified>
  <cp:revision>125</cp:revision>
  <dc:subject/>
  <dc:title>スライド 1</dc:title>
</cp:coreProperties>
</file>