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9C4A-C028-4F04-8225-050197705E1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CE60-FA24-4983-ADE0-44402ABD856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800" spc="-1" strike="noStrike">
                <a:solidFill>
                  <a:srgbClr val="000000"/>
                </a:solidFill>
                <a:latin typeface="Century"/>
              </a:rPr>
              <a:t>S2JMS &amp; S2JCA</a:t>
            </a:r>
            <a:br>
              <a:rPr sz="48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非同期メッセージングも易しく優し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浩一</a:t>
            </a:r>
            <a:r>
              <a:rPr b="1" i="1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32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4932360" y="4149720"/>
            <a:ext cx="144000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A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268280"/>
            <a:ext cx="1079280" cy="432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ラウ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1268280"/>
            <a:ext cx="2160720" cy="432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ベー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従業員が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追加されたら通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1268280"/>
            <a:ext cx="144144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HSQ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414972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表示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62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628640"/>
            <a:ext cx="720720" cy="719280"/>
          </a:xfrm>
          <a:prstGeom prst="leftRightArrow">
            <a:avLst>
              <a:gd name="adj1" fmla="val 50000"/>
              <a:gd name="adj2" fmla="val 199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51008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331280" y="450864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5080" y="451008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933720"/>
            <a:ext cx="6769080" cy="237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</a:rPr>
              <a:t>追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 Examp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mployeeLogicIm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989000"/>
            <a:ext cx="7921440" cy="26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examples.jsf.logic.impl.EmployeeLogicImpl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&gt;logicInterceptorChain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 pointcut="ins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sendMessageInter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n2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ndMessage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989000"/>
            <a:ext cx="7921440" cy="375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name="sendMessageInterceptor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...SendMessageIntercep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messa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class="...TextMessag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tex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"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#{employeeDto.empno}:#{employeeDto.ename}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使い方を教えてくだ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使い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2P or Pub/Su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cted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xtMessage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ュー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ピッ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複数のロジッ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緒に開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同期メッセージングも易しく優し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送信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信系はこれ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 浩一 </a:t>
            </a:r>
            <a:r>
              <a:rPr b="1" i="1" lang="ja-JP" sz="36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koichi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話題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モデル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画像たく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画像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イドル画像でも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職場では見ない方が賢明か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ms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 Messag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のため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(Messaging-Oriented Middle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BM WebSphereMQ(aka MQSeries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面倒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易しく優しく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ca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 Connecto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V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にある様々なりソースを扱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リソースの一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，トランザクション管理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一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リソース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ダ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ランザクション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位置づ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タンドアロンで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S2JM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2349360"/>
            <a:ext cx="1008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349360"/>
            <a:ext cx="1584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51280" y="2924280"/>
            <a:ext cx="288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インターセ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送信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268280"/>
            <a:ext cx="1081080" cy="504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12000" y="3429000"/>
            <a:ext cx="108108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1268280"/>
            <a:ext cx="100800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993080" y="5408280"/>
            <a:ext cx="718920" cy="10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3429000"/>
            <a:ext cx="1081080" cy="28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3429000"/>
            <a:ext cx="1439640" cy="28796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s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送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268280"/>
            <a:ext cx="6408720" cy="648000"/>
          </a:xfrm>
          <a:prstGeom prst="rightArrow">
            <a:avLst>
              <a:gd name="adj1" fmla="val 50000"/>
              <a:gd name="adj2" fmla="val 2472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6443280" y="2205000"/>
            <a:ext cx="1368360" cy="1224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704880 h 1224000"/>
              <a:gd name="textAreaBottom" fmla="*/ 1048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092360" y="450864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3164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32000" y="5589720"/>
            <a:ext cx="64800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429000"/>
            <a:ext cx="1081080" cy="28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ク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054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33128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受信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想のみ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053440" y="2707560"/>
            <a:ext cx="719280" cy="144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268280"/>
            <a:ext cx="1440000" cy="4321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06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126828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342900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1628640"/>
            <a:ext cx="64800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42900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290560" y="486900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508640"/>
            <a:ext cx="2808360" cy="1800000"/>
          </a:xfrm>
          <a:prstGeom prst="wedgeEllipseCallout">
            <a:avLst>
              <a:gd name="adj1" fmla="val 76796"/>
              <a:gd name="adj2" fmla="val -301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的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位置づけ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HT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リクエストの代わりにメッセー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面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インフ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憧れ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画面のよ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組み立てて送信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ように受信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バインド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小林浩一</dc:creator>
  <dc:description/>
  <dc:language>en-US</dc:language>
  <cp:lastModifiedBy>羽生　章洋</cp:lastModifiedBy>
  <dcterms:modified xsi:type="dcterms:W3CDTF">2005-07-13T07:46:14Z</dcterms:modified>
  <cp:revision>583</cp:revision>
  <dc:subject>非同期メッセージングも易しく優しく</dc:subject>
  <dc:title>S2JMS &amp; S2JCA</dc:title>
</cp:coreProperties>
</file>