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560" y="25560"/>
            <a:ext cx="3466800" cy="12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C07FF-5120-4593-87A4-70A0A70BAFE7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981000"/>
            <a:ext cx="4762440" cy="171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220CC-936A-44BE-BBD5-5D85D56FA93B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2463480"/>
            <a:ext cx="8654760" cy="17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Trickle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的軽量ワークフローエンジ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5.07.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 Sandbox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吉原　日出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己紹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名前：吉原　日出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ブログ：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会社：有限会社ヌーラボ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http://www.nulab.co.jp/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800" spc="-1" strike="noStrike">
                <a:solidFill>
                  <a:srgbClr val="e6c7b3"/>
                </a:solidFill>
                <a:latin typeface="Arial"/>
              </a:rPr>
              <a:t>ぬーベージュ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#E6C7B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ckl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http://trickle.oscj.net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Trickl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てなんです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を利用した軽量ワークフローエンジ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を利用しているので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も利用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ァミリーとの親和性も高い（はず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ファイルは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拡張タグでワークフローを制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26920" y="4941720"/>
            <a:ext cx="7345440" cy="1440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ところで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ickl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』の意味は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「滴」で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滴がポタッポタッと規則正しく落ちるさまが、まるでフロー制御を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彷彿させて、キュート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製作の動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某課題管理システムの開発現場に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状態毎の振分け処理は、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State Pattern 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使ってもあまり気持良いもんじゃないですよ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Y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ですです、サービスで処理するのか、アクションで処理するのか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それに、前状態の検証とか必要だろう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Y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承認や、アクセス制限の要望も出そうですよ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状態遷移も色々変えたくなりますよ、きっ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Y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ワークフローエンジンですかね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J▲RA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も、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OSW☆rk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㌶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low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使ってるみたいです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Y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♂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SWor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㊨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flo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ゥは、複雑で、ちょっと重すぎますね。（；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´д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｀ 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じゃあ作っちゃいましょう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Y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 ・・・・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 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S2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対応で、設定ファイルも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dicon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みたいに書けたら素敵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サ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処理フローはステップと呼ばれる作業単位に分割され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ローの条件分岐を制御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63640" y="2276640"/>
            <a:ext cx="4918320" cy="641520"/>
          </a:xfrm>
          <a:prstGeom prst="rect">
            <a:avLst/>
          </a:prstGeom>
          <a:solidFill>
            <a:srgbClr val="99cc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activity step="1" status="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　　　　　　　　　　・・・省略・・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activi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35280" y="4387680"/>
            <a:ext cx="4917960" cy="1554120"/>
          </a:xfrm>
          <a:prstGeom prst="rect">
            <a:avLst/>
          </a:prstGeom>
          <a:solidFill>
            <a:srgbClr val="99cc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activity step="1" status="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transition id="2" name="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次は２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・・・省略・・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transi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transition id="3" name="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次は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・・・省略・・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transi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activi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サ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状態固有の処理を行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の結果によって、次に遷移するステップが確定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ity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や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の検証とし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i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を設ける事ができます。用途は、ユーザ認証や、ステップの同期等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3280" y="3789360"/>
            <a:ext cx="6912000" cy="2466720"/>
          </a:xfrm>
          <a:prstGeom prst="rect">
            <a:avLst/>
          </a:prstGeom>
          <a:solidFill>
            <a:srgbClr val="99cc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activity step="1" status="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１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condi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componentclass="org.seasa.trickle.restriction.ConforManceCondition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property name="step"&gt;"*"&lt;/proper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/compon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/condi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transition id="2" name="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次は２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action&gt;defalutAction&lt;/ac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results name="success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result step="2"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/result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/transi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/activi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デモンストレ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アプリケーションと連携したデモを当日までに、間に合えば用意したいで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皆さんへの要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Workflow Patter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も対応した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ttp://is.tm.tue.nl/research/patterns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解析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やらせたり、反則技を使ったり、と問題ありなのでぜひぜひたたき上げて欲し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ワークフローを教え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素敵なデザインツールが欲しいなあ。。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もね、「これくらいが、丁度良い」で十分で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ckl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は、軽量ワークフローエンジンで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欲しかったから作ってみましたが、正直用途があるのかは、わかりませ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「これくらいが丁度良い」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ckl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で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7T03:46:01Z</dcterms:created>
  <dc:creator>羽生　章洋</dc:creator>
  <dc:description/>
  <dc:language>en-US</dc:language>
  <cp:lastModifiedBy>羽生　章洋</cp:lastModifiedBy>
  <dcterms:modified xsi:type="dcterms:W3CDTF">2005-07-14T02:54:51Z</dcterms:modified>
  <cp:revision>627</cp:revision>
  <dc:subject/>
  <dc:title>くーす本の内容を先取り！ DI時代の業務システム構築技法 ～業務分析からシステム設計・開発までを一気に突っ走る～</dc:title>
</cp:coreProperties>
</file>