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12F9-D282-4A08-AC58-13978D674DB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インタフェースをやめて、クラスにする。コンテナをやめて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HashM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アノテーションか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dic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ファイル生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136B-B3B6-4C23-BBD5-3F8E709EA0B9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0839-8231-4E8D-94BC-10631535088D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ＭＳ Ｐゴシック"/>
              </a:rPr>
              <a:t>S2PHP5</a:t>
            </a:r>
            <a:r>
              <a:rPr b="0" lang="ja-JP" sz="44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br>
              <a:rPr sz="4400"/>
            </a:b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S2Container PHP5</a:t>
            </a: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への移植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k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/10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to PH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966680" y="1066680"/>
            <a:ext cx="1608480" cy="5486040"/>
            <a:chOff x="1966680" y="1066680"/>
            <a:chExt cx="1608480" cy="5486040"/>
          </a:xfrm>
        </p:grpSpPr>
        <p:grpSp>
          <p:nvGrpSpPr>
            <p:cNvPr id="125" name=""/>
            <p:cNvGrpSpPr/>
            <p:nvPr/>
          </p:nvGrpSpPr>
          <p:grpSpPr>
            <a:xfrm>
              <a:off x="1966680" y="1066680"/>
              <a:ext cx="1608480" cy="5224680"/>
              <a:chOff x="1966680" y="1066680"/>
              <a:chExt cx="1608480" cy="5224680"/>
            </a:xfrm>
          </p:grpSpPr>
          <p:sp>
            <p:nvSpPr>
              <p:cNvPr id="126" name=""/>
              <p:cNvSpPr/>
              <p:nvPr/>
            </p:nvSpPr>
            <p:spPr>
              <a:xfrm>
                <a:off x="1966680" y="1066680"/>
                <a:ext cx="1608480" cy="36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nnotation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769840" y="1501920"/>
                <a:ext cx="0" cy="478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2693880" y="1675800"/>
              <a:ext cx="152280" cy="487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04920" y="990720"/>
            <a:ext cx="457200" cy="5568480"/>
            <a:chOff x="304920" y="990720"/>
            <a:chExt cx="457200" cy="5568480"/>
          </a:xfrm>
        </p:grpSpPr>
        <p:grpSp>
          <p:nvGrpSpPr>
            <p:cNvPr id="130" name=""/>
            <p:cNvGrpSpPr/>
            <p:nvPr/>
          </p:nvGrpSpPr>
          <p:grpSpPr>
            <a:xfrm>
              <a:off x="304920" y="990720"/>
              <a:ext cx="457200" cy="617040"/>
              <a:chOff x="304920" y="990720"/>
              <a:chExt cx="457200" cy="617040"/>
            </a:xfrm>
          </p:grpSpPr>
          <p:sp>
            <p:nvSpPr>
              <p:cNvPr id="131" name=""/>
              <p:cNvSpPr/>
              <p:nvPr/>
            </p:nvSpPr>
            <p:spPr>
              <a:xfrm>
                <a:off x="414360" y="990720"/>
                <a:ext cx="228600" cy="205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04920" y="12650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33520" y="1196280"/>
                <a:ext cx="0" cy="27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304920" y="1470960"/>
                <a:ext cx="22860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 flipV="1">
                <a:off x="533160" y="1470960"/>
                <a:ext cx="22860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533520" y="1608120"/>
              <a:ext cx="0" cy="477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1695240"/>
              <a:ext cx="152280" cy="486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817800" y="1066680"/>
            <a:ext cx="2454480" cy="5486040"/>
            <a:chOff x="3817800" y="1066680"/>
            <a:chExt cx="2454480" cy="5486040"/>
          </a:xfrm>
        </p:grpSpPr>
        <p:grpSp>
          <p:nvGrpSpPr>
            <p:cNvPr id="139" name=""/>
            <p:cNvGrpSpPr/>
            <p:nvPr/>
          </p:nvGrpSpPr>
          <p:grpSpPr>
            <a:xfrm>
              <a:off x="3817800" y="1066680"/>
              <a:ext cx="2454480" cy="5224680"/>
              <a:chOff x="3817800" y="1066680"/>
              <a:chExt cx="2454480" cy="5224680"/>
            </a:xfrm>
          </p:grpSpPr>
          <p:sp>
            <p:nvSpPr>
              <p:cNvPr id="140" name=""/>
              <p:cNvSpPr/>
              <p:nvPr/>
            </p:nvSpPr>
            <p:spPr>
              <a:xfrm>
                <a:off x="3817800" y="1066680"/>
                <a:ext cx="2454480" cy="36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400" spc="-1" strike="noStrike">
                    <a:solidFill>
                      <a:srgbClr val="000000"/>
                    </a:solidFill>
                    <a:latin typeface="Arial"/>
                  </a:rPr>
                  <a:t>AnnotationRead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045040" y="1501920"/>
                <a:ext cx="0" cy="478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4968720" y="1675800"/>
              <a:ext cx="152640" cy="487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7368120" y="1066680"/>
            <a:ext cx="1692360" cy="5486040"/>
            <a:chOff x="7368120" y="1066680"/>
            <a:chExt cx="1692360" cy="5486040"/>
          </a:xfrm>
        </p:grpSpPr>
        <p:grpSp>
          <p:nvGrpSpPr>
            <p:cNvPr id="144" name=""/>
            <p:cNvGrpSpPr/>
            <p:nvPr/>
          </p:nvGrpSpPr>
          <p:grpSpPr>
            <a:xfrm>
              <a:off x="7368120" y="1066680"/>
              <a:ext cx="1692360" cy="5224680"/>
              <a:chOff x="7368120" y="1066680"/>
              <a:chExt cx="1692360" cy="5224680"/>
            </a:xfrm>
          </p:grpSpPr>
          <p:sp>
            <p:nvSpPr>
              <p:cNvPr id="145" name=""/>
              <p:cNvSpPr/>
              <p:nvPr/>
            </p:nvSpPr>
            <p:spPr>
              <a:xfrm>
                <a:off x="7368120" y="1066680"/>
                <a:ext cx="1692360" cy="36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2Contain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213760" y="1501920"/>
                <a:ext cx="0" cy="478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8139240" y="1675800"/>
              <a:ext cx="152280" cy="487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09480" y="1523880"/>
            <a:ext cx="7543800" cy="686880"/>
            <a:chOff x="609480" y="1523880"/>
            <a:chExt cx="7543800" cy="686880"/>
          </a:xfrm>
        </p:grpSpPr>
        <p:sp>
          <p:nvSpPr>
            <p:cNvPr id="149" name=""/>
            <p:cNvSpPr/>
            <p:nvPr/>
          </p:nvSpPr>
          <p:spPr>
            <a:xfrm>
              <a:off x="2895480" y="2057400"/>
              <a:ext cx="2057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7240" y="1523880"/>
              <a:ext cx="187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getAnno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480" y="1905120"/>
              <a:ext cx="2057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50320" y="16574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委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36280" y="1844640"/>
              <a:ext cx="2539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hasComponentDe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81480" y="2209680"/>
              <a:ext cx="2971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181480" y="5181480"/>
            <a:ext cx="2971800" cy="899280"/>
            <a:chOff x="5181480" y="5181480"/>
            <a:chExt cx="2971800" cy="899280"/>
          </a:xfrm>
        </p:grpSpPr>
        <p:sp>
          <p:nvSpPr>
            <p:cNvPr id="156" name=""/>
            <p:cNvSpPr/>
            <p:nvPr/>
          </p:nvSpPr>
          <p:spPr>
            <a:xfrm>
              <a:off x="6145200" y="5181480"/>
              <a:ext cx="1017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81480" y="5546520"/>
              <a:ext cx="2971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43280" y="5714640"/>
              <a:ext cx="1998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get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81480" y="6080040"/>
              <a:ext cx="2971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09120" y="5788080"/>
            <a:ext cx="4343400" cy="536400"/>
            <a:chOff x="609120" y="5788080"/>
            <a:chExt cx="4343400" cy="536400"/>
          </a:xfrm>
        </p:grpSpPr>
        <p:sp>
          <p:nvSpPr>
            <p:cNvPr id="161" name=""/>
            <p:cNvSpPr/>
            <p:nvPr/>
          </p:nvSpPr>
          <p:spPr>
            <a:xfrm flipH="1">
              <a:off x="609120" y="6324480"/>
              <a:ext cx="205740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895120" y="6248160"/>
              <a:ext cx="205740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59400" y="5788080"/>
              <a:ext cx="1829520" cy="36612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Arial"/>
                </a:rPr>
                <a:t>アノテーションを返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09120" y="2286000"/>
            <a:ext cx="7544160" cy="915120"/>
            <a:chOff x="609120" y="2286000"/>
            <a:chExt cx="7544160" cy="915120"/>
          </a:xfrm>
        </p:grpSpPr>
        <p:grpSp>
          <p:nvGrpSpPr>
            <p:cNvPr id="165" name=""/>
            <p:cNvGrpSpPr/>
            <p:nvPr/>
          </p:nvGrpSpPr>
          <p:grpSpPr>
            <a:xfrm>
              <a:off x="609120" y="2759040"/>
              <a:ext cx="4343400" cy="442080"/>
              <a:chOff x="609120" y="2759040"/>
              <a:chExt cx="4343400" cy="442080"/>
            </a:xfrm>
          </p:grpSpPr>
          <p:sp>
            <p:nvSpPr>
              <p:cNvPr id="166" name=""/>
              <p:cNvSpPr/>
              <p:nvPr/>
            </p:nvSpPr>
            <p:spPr>
              <a:xfrm flipH="1">
                <a:off x="2895120" y="2759040"/>
                <a:ext cx="20574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609120" y="2987640"/>
                <a:ext cx="20574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194200" y="2835000"/>
                <a:ext cx="1098000" cy="36612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2400" spc="-1" strike="noStrike">
                    <a:solidFill>
                      <a:srgbClr val="000000"/>
                    </a:solidFill>
                    <a:latin typeface="Arial"/>
                  </a:rPr>
                  <a:t>読み込み済み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5105520" y="2667240"/>
              <a:ext cx="30477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4160" y="2286000"/>
              <a:ext cx="1998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get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105520" y="2895480"/>
            <a:ext cx="2879640" cy="2362320"/>
            <a:chOff x="5105520" y="2895480"/>
            <a:chExt cx="2879640" cy="2362320"/>
          </a:xfrm>
        </p:grpSpPr>
        <p:sp>
          <p:nvSpPr>
            <p:cNvPr id="172" name=""/>
            <p:cNvSpPr/>
            <p:nvPr/>
          </p:nvSpPr>
          <p:spPr>
            <a:xfrm>
              <a:off x="5105520" y="2895480"/>
              <a:ext cx="228600" cy="2362320"/>
            </a:xfrm>
            <a:custGeom>
              <a:avLst/>
              <a:gdLst/>
              <a:ahLst/>
              <a:rect l="l" t="t" r="r" b="b"/>
              <a:pathLst>
                <a:path w="336" h="912">
                  <a:moveTo>
                    <a:pt x="0" y="0"/>
                  </a:moveTo>
                  <a:lnTo>
                    <a:pt x="336" y="0"/>
                  </a:lnTo>
                  <a:lnTo>
                    <a:pt x="336" y="912"/>
                  </a:lnTo>
                  <a:lnTo>
                    <a:pt x="48" y="912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18880" y="3124080"/>
              <a:ext cx="1971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PHPDoc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読み込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09360" y="4299120"/>
              <a:ext cx="218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MockIntercep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　作成・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Asp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97200" y="3733920"/>
              <a:ext cx="2487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ComponentDef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作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ンプル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2640" y="2514240"/>
            <a:ext cx="7010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PHP5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でアノテー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Seasar2 2.4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系、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2.5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系に追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38080" y="3581280"/>
            <a:ext cx="6019920" cy="16002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PHP5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の今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是非一緒に開発して欲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Seasar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プロジェクト内でも、まだ一歩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コミットしてるの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独り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S2PHP5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に限らず、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プロジェク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補完計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T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1.0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のリリース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(Java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2.2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系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UnitTest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関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英語ドキュ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すなあそび・・・アノテーションと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WEB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フレームワークとの連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DB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との連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Java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に追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876800" y="5762520"/>
            <a:ext cx="732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おわ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730160"/>
            <a:ext cx="8229600" cy="36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H/N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k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ブログ：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http://www15.plala.or.jp/klov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茨城県在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普段は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UNIX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システムの管理業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sh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perl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、ときどき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43000" y="3124080"/>
            <a:ext cx="609588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3657600"/>
            <a:ext cx="6095880" cy="1828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2590920"/>
            <a:ext cx="609588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PHP5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http://s2php5.oscj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S2PHP5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とは何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PHP5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版の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と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を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dicon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ファイルはほぼ同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タグは一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OGNL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式ではなくて、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で記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設定ファイル形式でも記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8229600" cy="23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必要な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で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Seasar2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が使いた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( DI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コンテナは他にもあります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2209680"/>
            <a:ext cx="7315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Java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版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Seasar2 ver 2.2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系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ほぼ同じ事ができま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backport175 to PHP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Java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界隈でアノテーションが騒がし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  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( EJB3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JUnit4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、、、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/10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to PH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5320" y="1347840"/>
            <a:ext cx="414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のパッケー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r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04920" y="3352680"/>
            <a:ext cx="8762760" cy="3206880"/>
            <a:chOff x="304920" y="3352680"/>
            <a:chExt cx="8762760" cy="3206880"/>
          </a:xfrm>
        </p:grpSpPr>
        <p:sp>
          <p:nvSpPr>
            <p:cNvPr id="111" name=""/>
            <p:cNvSpPr/>
            <p:nvPr/>
          </p:nvSpPr>
          <p:spPr>
            <a:xfrm>
              <a:off x="304920" y="3352680"/>
              <a:ext cx="8762760" cy="3200400"/>
            </a:xfrm>
            <a:prstGeom prst="wedgeRoundRectCallout">
              <a:avLst>
                <a:gd name="adj1" fmla="val -34745"/>
                <a:gd name="adj2" fmla="val -66069"/>
                <a:gd name="adj3" fmla="val 16667"/>
              </a:avLst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41680" y="3905280"/>
              <a:ext cx="766800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- function getAnnotations ( ReflectionClass target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- function getAnnotation   ( String annotationType,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 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ReflectionClass target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- function isAnnotationPresent ( String annotationType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ReflectionClass targe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9080" y="3359160"/>
              <a:ext cx="333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Annotations</a:t>
              </a: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クラス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241800" y="1881360"/>
            <a:ext cx="284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(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見てないことにする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/10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to PH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1447920"/>
            <a:ext cx="5181480" cy="24382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/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* @annotation Hoge(‘val1’=&gt;’10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*                                ’msg’=&gt;’Hello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lass A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4495680"/>
            <a:ext cx="5181480" cy="167652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terface Hoge extends Annotatio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unction val1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unction msg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648320" y="2666880"/>
            <a:ext cx="4309200" cy="1628640"/>
            <a:chOff x="4648320" y="2666880"/>
            <a:chExt cx="4309200" cy="1628640"/>
          </a:xfrm>
        </p:grpSpPr>
        <p:sp>
          <p:nvSpPr>
            <p:cNvPr id="119" name=""/>
            <p:cNvSpPr/>
            <p:nvPr/>
          </p:nvSpPr>
          <p:spPr>
            <a:xfrm>
              <a:off x="4648320" y="2666880"/>
              <a:ext cx="976320" cy="1628640"/>
            </a:xfrm>
            <a:prstGeom prst="rightArrow">
              <a:avLst>
                <a:gd name="adj1" fmla="val 46398"/>
                <a:gd name="adj2" fmla="val 44389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75960" y="3176280"/>
              <a:ext cx="3481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MockInterceptor 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/10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to PH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219320"/>
            <a:ext cx="8305920" cy="518148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 name=“annotation id” class=“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og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mock&lt;/aspe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 name=“mock” class=“MockInterceptor”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 name="setReturnValue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“val1"&lt;/ar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“10"&lt;/ar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/initMetho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 name="setReturnValue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“msg"&lt;/ar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“Hello"&lt;/ar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/initMetho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klove</dc:creator>
  <dc:description/>
  <dc:language>en-US</dc:language>
  <cp:lastModifiedBy>羽生　章洋</cp:lastModifiedBy>
  <dcterms:modified xsi:type="dcterms:W3CDTF">2005-07-14T02:57:34Z</dcterms:modified>
  <cp:revision>690</cp:revision>
  <dc:subject/>
  <dc:title>S2PHP5 ～S2Container PHP5への移植～</dc:title>
</cp:coreProperties>
</file>