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B646-5336-4F5E-85EC-F880AF925E2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DFC1-B126-4CE8-AE0A-988AF881A5A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4" idx="1"/>
            <a:endCxn id="133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2" idx="1"/>
            <a:endCxn id="141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1"/>
            <a:endCxn id="146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1"/>
            <a:endCxn id="153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1555920"/>
            <a:ext cx="6624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563920"/>
            <a:ext cx="842472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95920"/>
            <a:ext cx="842472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86900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242100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他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052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1"/>
            <a:endCxn id="101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1"/>
            <a:endCxn id="119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09:30Z</dcterms:modified>
  <cp:revision>87</cp:revision>
  <dc:subject/>
  <dc:title>スライド 1</dc:title>
</cp:coreProperties>
</file>