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6FF1-1D29-4412-AFB8-AA9D51A18D6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B506-D29B-4AF8-A010-F79774A5A09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13:18Z</dcterms:modified>
  <cp:revision>38</cp:revision>
  <dc:subject/>
  <dc:title>スライド 1</dc:title>
</cp:coreProperties>
</file>