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3791-5019-4850-97C3-B96F95DA5850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D8B8-6B53-4BC9-9772-A25BDBF34924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aopalliance.sourceforge.net/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の正体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内部では何が起こっているのか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初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改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スタ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定義に追加された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リストに保存さ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中で出現順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リストに追加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ストの先頭から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調べら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名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指示し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正規表現パターンのマッチを取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マッチした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部を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roundAdvice#invoke(Joinpoint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コ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ストが尽きるとコンポーネントメソッドを実行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から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今度は実行し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部を逆順に実行してい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ーケン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6135480" cy="55929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7640" y="1341360"/>
            <a:ext cx="2521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etComponent(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後に、コンポーネントのメソッド利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ソッド呼び出しをインターセプト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タックされた最初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取得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自分を引数にして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oundAdvice 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#invoke(Joinpoint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呼ばれ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前後で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タックされた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あれば取得して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無くなればコンポーネントメソッドを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mponent </a:t>
            </a: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oundAdvice 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ソッドのコールスタックをさかのぼるように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ランザクション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Extensi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パッケ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透明な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のみでユーザーコードに何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コーディングを行わなくてよ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98800" y="4005360"/>
            <a:ext cx="6505560" cy="22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j2ee-config.xm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TxCa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2ee:requiredTx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11640" y="57340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spec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記述するだけ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象クラス・インターフェイスの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的な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・抽象クラ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普通にはインスタンス化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内部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バイトコードエンジニアリングによって拡張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クラス生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4508640"/>
            <a:ext cx="66232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org.seasar.Speake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sample.org.seasar.HelloAdvice“/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24000" y="2997360"/>
            <a:ext cx="6624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84720" y="378936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呼ばなけれ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をコンテナ機能として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をシンプルに行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を記述する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しなければなら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が１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多種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実は必要なかっ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多くのパターン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あ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や抽象クラスを実装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オブジェクトパターンを利用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にかく易し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実装への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新しい概念のために、必勝パターンが確立してい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何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作ればいいの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外部に依存する部分を集め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Shell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外処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殊なメソッド実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オブジェクト同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同期実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hell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32000" y="1052640"/>
            <a:ext cx="758664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SpeakerImp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extension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ScriptXM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sample/sample-script.xml'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0" y="4365720"/>
            <a:ext cx="5497560" cy="18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shel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scrip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joinpoi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y"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languag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hino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bindin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ame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bindin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"hello " + nam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scrip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shel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40360" y="59500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scrip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スクリプト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40360" y="299736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外部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ファイル参照をして、メソッド実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0360" y="35002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スクリプトエンジンの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PI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隠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例外処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1268280"/>
            <a:ext cx="792180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xceptionHandle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//</a:t>
            </a: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ハンドラへのアクセッサ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fireExceptionHandler(Joinpoint joinpoint, Exception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handler.size() == 0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 fals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for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Iterator it = handlers.iterator(); it.hasNext();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xceptionHandler handler = (ExceptionHandler)it.nex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andler.handleException(joinpoint, e)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u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bject ret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ull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y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 = joinpoint.procee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atc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Exception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!fireExceptionHandler(joinpoint, e)) {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e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557532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例外発生時、イベントハンドラを発火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43280" y="4292640"/>
            <a:ext cx="4321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ry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ブロックで保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オブジェクト同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47640" y="1844640"/>
            <a:ext cx="708660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yncObject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bject target = joinpoint.getTar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synchronize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targe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joinpoint.proceed()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95640" y="3716280"/>
            <a:ext cx="453708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nchronized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ブロックによってコンポーネントへのマルチスレッドアクセスを排他し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非同期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76320" y="1125360"/>
            <a:ext cx="6799320" cy="532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Call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Joinpoint joinpo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(Joinpoint joinpoin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joinpoint = joinpo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y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point.procee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atc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Throwable ignor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Runner runner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(joinpoin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read thread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ead(runn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read.star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oolean.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95640" y="616572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hrea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行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95640" y="3716280"/>
            <a:ext cx="453708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返値と例外をコールバックする等の工夫の余地あ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56163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グラミングを行う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質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ス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でない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横断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アプリケーション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クラス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な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開発要件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分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206064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378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1413000"/>
            <a:ext cx="3024360" cy="1439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要件として都度開発。ビジネスロジックとして、おそらく他に流用が聞かない部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3213000"/>
            <a:ext cx="3024360" cy="2089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らかじめフレームワーク的に用意されている機能か、繰り返し用いられてるロジックを抽出すると見えてくる。多分にシステムロジック的な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6093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734080"/>
            <a:ext cx="3024360" cy="7038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OP (Aspec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Oriented Programinng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オープンな仕様策定プロジェク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仕様の標準化を目指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パイ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環境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opalliance.sourceforge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現在作業中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現在）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 Allian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準拠を今後行ってい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コンテナ・フレームワーク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の相互利用が可能にな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現在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-AP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 Allian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ドラフトで幸いに相違がほとんどなかったため、早期実現が可能と思わ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リソー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ニュ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チュートリ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ン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ourceforge.j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-user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てなダイアリ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を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分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・バイナリとしても分か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複数の「関心」から成る場合も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利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「横断的」であることから、再利用性そのもの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件からシステム的機能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排出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、シンプルな技術で実現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5589720"/>
            <a:ext cx="4537080" cy="6422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(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lain Old=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平凡な」を意味するイディオ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 &amp;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再利用可能な実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ユーザー実装もしくは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グイン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rg.seasar.framework.aop.Around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インターフェイスを実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の接続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コンテナ管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roundAdvice#invoke(Joinpoint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メソッドの引数を通してアクセスする。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呼び出し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義の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として定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定義者が明示的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子要素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もしく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カンマ区切りで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たるコンポーネントのメソッド名を列挙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ークンごとに、正規表現を使用可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つ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複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現順序が動作に影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557360"/>
            <a:ext cx="842472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sync" class="tutorial.org.seasar.console.AsyncCallAdvice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"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[a-z]{3}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sample/org/seasar/shellscript/sample-config.xml'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un, init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4920" y="564660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をカンマ区切りで複数トークン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614988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コンポーネント名で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4249800"/>
            <a:ext cx="532944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で定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716280"/>
            <a:ext cx="5329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に正規表現を利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登場人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機能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内部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mponent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定義を保持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スペクト定義を保持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おい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実装するインターフェイ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GL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バイトコードエンジニアリングライブラ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627280" y="3213000"/>
            <a:ext cx="6192720" cy="3168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Container - Aop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59640" y="3645000"/>
            <a:ext cx="1946160" cy="25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32000" y="3645000"/>
            <a:ext cx="3384720" cy="25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関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＆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から成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コンポーネントメソッドをリフレクション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00720" y="4292640"/>
            <a:ext cx="2089080" cy="431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4292640"/>
            <a:ext cx="2592360" cy="458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95640" y="5562720"/>
            <a:ext cx="2592360" cy="458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1367640" y="4688280"/>
            <a:ext cx="2592360" cy="5050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00720" y="5589720"/>
            <a:ext cx="2089080" cy="431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88000" y="450864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573408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4716360" y="4653000"/>
            <a:ext cx="1728720" cy="10080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40360" y="4724280"/>
            <a:ext cx="0" cy="86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4941720"/>
            <a:ext cx="1440000" cy="432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213000"/>
            <a:ext cx="1655640" cy="3168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450864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580536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58920" y="980640"/>
            <a:ext cx="57592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、実行時期で二分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呼ぶ前と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呼ぶ前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読んだ後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41440" y="2565360"/>
            <a:ext cx="6551640" cy="38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BS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roundAdvic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Object invoke(Joinpoint joinpoint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Throw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Object ret = joinpoint.proce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4880" y="3645000"/>
            <a:ext cx="5834160" cy="433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4880" y="4654440"/>
            <a:ext cx="583272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63640" y="3860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4869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720" y="36450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6720" y="465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Masataka Kurihara</cp:lastModifiedBy>
  <dcterms:modified xsi:type="dcterms:W3CDTF">2004-04-12T06:34:57Z</dcterms:modified>
  <cp:revision>41</cp:revision>
  <dc:subject/>
  <dc:title>スライド 1</dc:title>
</cp:coreProperties>
</file>