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71280" y="-1440"/>
            <a:ext cx="2916360" cy="13428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9371B-73D5-4AE5-884D-7F7BDAA44F07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95280" y="1268280"/>
            <a:ext cx="3600360" cy="16574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71185-BB16-4334-837E-286F2A0D8768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00000" y="2463840"/>
            <a:ext cx="777240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S2IoC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への招待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Seasar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基本機能のすべ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771280" y="5229360"/>
            <a:ext cx="596916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プロジェクト主催 “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のからさわぎ”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日初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日改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栗原 傑享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Masataka Kurihara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124000" y="1125360"/>
            <a:ext cx="6624720" cy="324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EngineCar implements Ca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nt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engineSiz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boolean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turb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EngineCar(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nt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engineSize,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boolean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turbo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i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engineSize = engineSiz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i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turbo = turb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void run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ystem.out.println("Engine is " + engineSize 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"cc, " + "turbo:" + turbo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124000" y="4510080"/>
            <a:ext cx="6624720" cy="194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class="tutorial.org.seasar.console.Engine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rg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000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rg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rg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true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rg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"/>
          <p:cNvCxnSpPr/>
          <p:nvPr/>
        </p:nvCxnSpPr>
        <p:spPr>
          <a:xfrm flipH="1" rot="10800000">
            <a:off x="2122920" y="2817000"/>
            <a:ext cx="2520" cy="2592720"/>
          </a:xfrm>
          <a:prstGeom prst="bentConnector3">
            <a:avLst>
              <a:gd name="adj1" fmla="val -492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250920" y="3500280"/>
            <a:ext cx="1728720" cy="82404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記述された値がコンストラクタ引数に設定され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435640" y="6149880"/>
            <a:ext cx="288144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el: 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論理値もそのまま記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435640" y="5645160"/>
            <a:ext cx="287964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el: 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数値はそのまま記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771640" y="1052640"/>
            <a:ext cx="6005520" cy="22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StereoCar implements Ca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List list =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new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rrayLis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void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ddBGM(BGM bgm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list.add(bgm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// run()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省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3640" y="3573360"/>
            <a:ext cx="7056360" cy="288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spitz" class="tutorial.org.seasar.console.CD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rg&gt;'Spitz'&lt;/arg&gt;&lt;arg&gt;'Iroirokoromo'&lt;/ar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class="tutorial.org.seasar.console.Stereo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initMethod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addBGM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rg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pitz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rg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initMetho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"/>
          <p:cNvCxnSpPr>
            <a:stCxn id="133" idx="1"/>
            <a:endCxn id="132" idx="1"/>
          </p:cNvCxnSpPr>
          <p:nvPr/>
        </p:nvCxnSpPr>
        <p:spPr>
          <a:xfrm flipH="1" rot="10800000">
            <a:off x="1763280" y="2168640"/>
            <a:ext cx="1008720" cy="2846520"/>
          </a:xfrm>
          <a:prstGeom prst="bentConnector3">
            <a:avLst>
              <a:gd name="adj1" fmla="val -78721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5" name=""/>
          <p:cNvSpPr/>
          <p:nvPr/>
        </p:nvSpPr>
        <p:spPr>
          <a:xfrm>
            <a:off x="324000" y="1916280"/>
            <a:ext cx="172872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記述されたメソッドが記述引数値で実行され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859280" y="5877000"/>
            <a:ext cx="3708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el: 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コンポーネント名で検索でき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ンポーネントの自動初期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自動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に書かずとも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asar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が判断して自動初期化をできるかぎり行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コンポーネントをコンテナが走査して、プロパティを自動設定す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プロパティの型がインターフェイスで、実装コンポーネントが同一コンテナ上に登録されているこ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コンストラクタの引数型をしらべ、引数を自動設定す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引数型がすべてインターフェイスであるこ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一番引数の多いコンストラクタであるこ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それぞれの引数型のインターフェイスの実装コンポーネントが同一コンテナ上に登録されているこ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自動初期化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11280" y="1125360"/>
            <a:ext cx="6438960" cy="266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ackage tutorial.org.seasar.consol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AutoChangerCar implements Ca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BGM bg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void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setBGM(BGM bgm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i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bgm = bg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void run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ystem.out.println("BGM is " + bgm.getDisplay(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26920" y="3933720"/>
            <a:ext cx="7993080" cy="239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spitz" class="tutorial.org.seasar.console.CD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rg&gt;'Spitz'&lt;/ar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rg&gt;'Iroirokoromo'&lt;/ar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tutorial.org.seasar.console.AutoChangerCa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40" idx="1"/>
          </p:cNvCxnSpPr>
          <p:nvPr/>
        </p:nvCxnSpPr>
        <p:spPr>
          <a:xfrm flipH="1" rot="10800000">
            <a:off x="825840" y="2456640"/>
            <a:ext cx="1585080" cy="2674080"/>
          </a:xfrm>
          <a:prstGeom prst="bentConnector3">
            <a:avLst>
              <a:gd name="adj1" fmla="val -1442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3" name=""/>
          <p:cNvSpPr/>
          <p:nvPr/>
        </p:nvSpPr>
        <p:spPr>
          <a:xfrm>
            <a:off x="250920" y="2133720"/>
            <a:ext cx="172872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設定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はプロパティ設定の記述がないが、自動設定され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自動初期化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11280" y="1125360"/>
            <a:ext cx="6438960" cy="266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ackage tutorial.org.seasar.consol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AutoChangerCar implements Ca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BGM bg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utoChangerCar(BGM bgm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i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bgm = bg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void run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ystem.out.println("BGM is " + bgm.getDisplay(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26920" y="3933720"/>
            <a:ext cx="7993080" cy="239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spitz" class="tutorial.org.seasar.console.CD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rg&gt;'Spitz'&lt;/ar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rg&gt;'Iroirokoromo'&lt;/ar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tutorial.org.seasar.console.AutoChangerCa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>
            <a:stCxn id="146" idx="1"/>
            <a:endCxn id="145" idx="1"/>
          </p:cNvCxnSpPr>
          <p:nvPr/>
        </p:nvCxnSpPr>
        <p:spPr>
          <a:xfrm flipH="1" rot="10800000">
            <a:off x="825840" y="2456640"/>
            <a:ext cx="1585080" cy="2674080"/>
          </a:xfrm>
          <a:prstGeom prst="bentConnector3">
            <a:avLst>
              <a:gd name="adj1" fmla="val -1442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8" name=""/>
          <p:cNvSpPr/>
          <p:nvPr/>
        </p:nvSpPr>
        <p:spPr>
          <a:xfrm>
            <a:off x="250920" y="2133720"/>
            <a:ext cx="172872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設定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はコンストラクタ引数設定の記述がないが、自動設定され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ライフサイク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初期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ype2 / Type3 / Type4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駆使して初期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終了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Container#destroy()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よって、全登録コンポーネントの終了化メソッドの呼び出しを行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destroyMethod&gt;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エレメントによる設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インスタンスモー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inglet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モードの場合のみ、終了化メソッドが有効になる。→ 後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destroyMethod&gt;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05080" y="1916280"/>
            <a:ext cx="7343640" cy="21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GoBackCar implements Ca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// run()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省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void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comeBack(Date back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impleDateFormat fmt =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new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SimpleDateFormat(</a:t>
            </a:r>
            <a:r>
              <a:rPr b="1" lang="ja-JP" sz="1800" spc="-1" strike="noStrike">
                <a:solidFill>
                  <a:srgbClr val="2a00ff"/>
                </a:solidFill>
                <a:latin typeface="ＭＳ ゴシック"/>
                <a:ea typeface="ＭＳ ゴシック"/>
              </a:rPr>
              <a:t>"HH:mm"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ystem.out.println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  </a:t>
            </a:r>
            <a:r>
              <a:rPr b="1" lang="ja-JP" sz="1800" spc="-1" strike="noStrike">
                <a:solidFill>
                  <a:srgbClr val="2a00ff"/>
                </a:solidFill>
                <a:latin typeface="ＭＳ ゴシック"/>
                <a:ea typeface="ＭＳ ゴシック"/>
              </a:rPr>
              <a:t>“</a:t>
            </a:r>
            <a:r>
              <a:rPr b="1" lang="ja-JP" sz="1800" spc="-1" strike="noStrike">
                <a:solidFill>
                  <a:srgbClr val="2a00ff"/>
                </a:solidFill>
                <a:latin typeface="ＭＳ ゴシック"/>
                <a:ea typeface="ＭＳ ゴシック"/>
              </a:rPr>
              <a:t>I have come back at "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+ fmt.format(back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413080" y="4275000"/>
            <a:ext cx="6335640" cy="224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class="tutorial.org.seasar.console.GoHome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destroyMethod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comeBack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rg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new java.util.Date()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rg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destroyMetho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184720" y="5791320"/>
            <a:ext cx="3708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el: new 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オブジェクト生成でき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5" name=""/>
          <p:cNvCxnSpPr>
            <a:stCxn id="153" idx="1"/>
            <a:endCxn id="152" idx="1"/>
          </p:cNvCxnSpPr>
          <p:nvPr/>
        </p:nvCxnSpPr>
        <p:spPr>
          <a:xfrm rot="10800000">
            <a:off x="1404360" y="2996640"/>
            <a:ext cx="1008720" cy="2404080"/>
          </a:xfrm>
          <a:prstGeom prst="bentConnector3">
            <a:avLst>
              <a:gd name="adj1" fmla="val 12267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6" name=""/>
          <p:cNvSpPr/>
          <p:nvPr/>
        </p:nvSpPr>
        <p:spPr>
          <a:xfrm>
            <a:off x="250920" y="4437000"/>
            <a:ext cx="1728720" cy="5806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initMethod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と同様に、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に記述されたメソッドが記述引数値で実行され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549760" y="1125360"/>
            <a:ext cx="3198960" cy="5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ontainer.destroy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39640" y="1341360"/>
            <a:ext cx="5256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アプリケーション終了時に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2Container#destroy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メソッドの実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82296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e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メソッ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中のエレメントボディに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記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initMethod&gt;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および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destroyMethod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属性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を記述し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arg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エレメントを記述し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ou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」 →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ystem.ou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thi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」 → 自コンポーネント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他、コンポーネント名が使用でき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メソッド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2276640"/>
            <a:ext cx="8353440" cy="24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class="tutorial.org.seasar.console.GoHome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initMethod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out.println('Enjoy shopping!')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initMetho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destroyMethod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this.comeBack(new java.util.Date())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destroyMetho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547640" y="5661000"/>
            <a:ext cx="72010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el: &lt;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コンポートネント名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gt;.&lt;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メソッド名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gt;(&lt;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引数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gt;)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メソッド実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 flipV="1">
            <a:off x="3131640" y="3933720"/>
            <a:ext cx="792360" cy="93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3059280" y="1844640"/>
            <a:ext cx="2233440" cy="936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643280" y="1484280"/>
            <a:ext cx="309564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「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ou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」で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ystem.ou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参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564000" y="4869000"/>
            <a:ext cx="3708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「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this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」で自コンポーネントを参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インスタンスモー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4360" y="1052280"/>
            <a:ext cx="822960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コンポーネント生成を誰が行う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Container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が生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leto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およ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クライアントで生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コンポーネント保持は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gleton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の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終了化メソッ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826920" y="4437000"/>
          <a:ext cx="7848720" cy="2073240"/>
        </p:xfrm>
        <a:graphic>
          <a:graphicData uri="http://schemas.openxmlformats.org/drawingml/2006/table">
            <a:tbl>
              <a:tblPr/>
              <a:tblGrid>
                <a:gridCol w="2089440"/>
                <a:gridCol w="2879640"/>
                <a:gridCol w="287964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ance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モー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コンポーネント生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コンポーネント保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ee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glet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Contain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d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Container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のた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終了化メソッド有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dfd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totyp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Contain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d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クライアン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dfd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ddd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クライアントで生成のた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属性が任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dfd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クライアン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dfdf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IoC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テ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445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IoC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テナの一種。軽量コンテナ（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Lightweight Containe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）とも言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この分野を適切に指し示す用語がまだ定まっていな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最新の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開発メソッドであ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I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Inversion of Control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略。制御の逆転を意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制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オブジェクト生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オブジェクトの設定（初期化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逆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コンテナがオブジェクト生成に責任を持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オブジェクトのプロパティ等の設定をコンテナが行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クライアントはインターフェイスで受けて実装す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ject Depend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外部でコンポーネントを生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2Container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ではコンストラクタを実行し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の初期は行え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機能が使え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外部でコンポーネント保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2Container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ではコンポーネントを保持し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終了化メソッドが動作し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ンポーネント初期化のみ行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によるプロパティ設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によるメソッド呼び出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コンテナに登録されているコンポーネントを利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自動設定が動作。これが最も有用なポイント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ject Dependency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301760" y="1341360"/>
            <a:ext cx="7446960" cy="25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Factory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rivate static String PATH = "tutorial/org/seasar/console/car.xml"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static void main(String[] arg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2Container container = S2ContainerFactory.create(PATH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 car =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new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UnderConstructionCa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ontainer.injectDependency(car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.run(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301760" y="4492800"/>
            <a:ext cx="7416720" cy="188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entury"/>
                <a:ea typeface="ＭＳ 明朝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entury"/>
                <a:ea typeface="ＭＳ 明朝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    </a:t>
            </a:r>
            <a:r>
              <a:rPr b="1" lang="ja-JP" sz="1800" spc="-1" strike="noStrike">
                <a:solidFill>
                  <a:srgbClr val="660066"/>
                </a:solidFill>
                <a:latin typeface="Century"/>
                <a:ea typeface="ＭＳ 明朝"/>
              </a:rPr>
              <a:t>&lt;component</a:t>
            </a: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 </a:t>
            </a:r>
            <a:r>
              <a:rPr b="1" lang="ja-JP" sz="1800" spc="-1" strike="noStrike">
                <a:solidFill>
                  <a:srgbClr val="009900"/>
                </a:solidFill>
                <a:latin typeface="Century"/>
                <a:ea typeface="ＭＳ 明朝"/>
              </a:rPr>
              <a:t>instance=</a:t>
            </a:r>
            <a:r>
              <a:rPr b="1" lang="ja-JP" sz="1800" spc="-1" strike="noStrike">
                <a:solidFill>
                  <a:srgbClr val="0000ff"/>
                </a:solidFill>
                <a:latin typeface="Century"/>
                <a:ea typeface="ＭＳ 明朝"/>
              </a:rPr>
              <a:t>"outer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        </a:t>
            </a:r>
            <a:r>
              <a:rPr b="1" lang="ja-JP" sz="1800" spc="-1" strike="noStrike">
                <a:solidFill>
                  <a:srgbClr val="009900"/>
                </a:solidFill>
                <a:latin typeface="Century"/>
                <a:ea typeface="ＭＳ 明朝"/>
              </a:rPr>
              <a:t>class=</a:t>
            </a:r>
            <a:r>
              <a:rPr b="1" lang="ja-JP" sz="1800" spc="-1" strike="noStrike">
                <a:solidFill>
                  <a:srgbClr val="0000ff"/>
                </a:solidFill>
                <a:latin typeface="Century"/>
                <a:ea typeface="ＭＳ 明朝"/>
              </a:rPr>
              <a:t>"tutorial.org.seasar.console.UnderConstructionCar"</a:t>
            </a: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        </a:t>
            </a:r>
            <a:r>
              <a:rPr b="1" lang="ja-JP" sz="1800" spc="-1" strike="noStrike">
                <a:solidFill>
                  <a:srgbClr val="660066"/>
                </a:solidFill>
                <a:latin typeface="Century"/>
                <a:ea typeface="ＭＳ 明朝"/>
              </a:rPr>
              <a:t>&lt;property</a:t>
            </a: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 </a:t>
            </a:r>
            <a:r>
              <a:rPr b="1" lang="ja-JP" sz="1800" spc="-1" strike="noStrike">
                <a:solidFill>
                  <a:srgbClr val="009900"/>
                </a:solidFill>
                <a:latin typeface="Century"/>
                <a:ea typeface="ＭＳ 明朝"/>
              </a:rPr>
              <a:t>name=</a:t>
            </a:r>
            <a:r>
              <a:rPr b="1" lang="ja-JP" sz="1800" spc="-1" strike="noStrike">
                <a:solidFill>
                  <a:srgbClr val="0000ff"/>
                </a:solidFill>
                <a:latin typeface="Century"/>
                <a:ea typeface="ＭＳ 明朝"/>
              </a:rPr>
              <a:t>"engine"</a:t>
            </a:r>
            <a:r>
              <a:rPr b="1" lang="ja-JP" sz="1800" spc="-1" strike="noStrike">
                <a:solidFill>
                  <a:srgbClr val="660066"/>
                </a:solidFill>
                <a:latin typeface="Century"/>
                <a:ea typeface="ＭＳ 明朝"/>
              </a:rPr>
              <a:t>&gt;</a:t>
            </a: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'SOHC-V12 Twin turbo'</a:t>
            </a:r>
            <a:r>
              <a:rPr b="1" lang="ja-JP" sz="1800" spc="-1" strike="noStrike">
                <a:solidFill>
                  <a:srgbClr val="660066"/>
                </a:solidFill>
                <a:latin typeface="Century"/>
                <a:ea typeface="ＭＳ 明朝"/>
              </a:rPr>
              <a:t>&lt;/propert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    </a:t>
            </a:r>
            <a:r>
              <a:rPr b="1" lang="ja-JP" sz="1800" spc="-1" strike="noStrike">
                <a:solidFill>
                  <a:srgbClr val="660066"/>
                </a:solidFill>
                <a:latin typeface="Century"/>
                <a:ea typeface="ＭＳ 明朝"/>
              </a:rPr>
              <a:t>&lt;/component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entury"/>
                <a:ea typeface="ＭＳ 明朝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80000" y="3141720"/>
            <a:ext cx="3960720" cy="106740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型のほか、名前でも設定を検索でき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injectDependency(Objec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injectDependency(Object, clas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injectDependency(Object, Stri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59640" y="2478240"/>
            <a:ext cx="223344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クライアントで生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300720" y="4724280"/>
            <a:ext cx="1800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lass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属性は任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よるコンポーネント生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e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メソッ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component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ポーネント生成を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l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メソッドで行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initMethod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や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destroyMethod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と同様だが、「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ou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」や「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thi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」は使えない。→ ここでは生成処理のみを行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ポーネント生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ストラクターによる生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ファクトリメソッド（オブジェクト）による生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よるコンポーネント生成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258920" y="2546280"/>
            <a:ext cx="7200720" cy="217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redCa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new tutorial.org.seasar.console.PaintedCar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property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bodyColo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'red'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propert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971640" y="1341360"/>
            <a:ext cx="33112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コンポーネントは型で取得できないために、必ず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name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属性の設定が必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924360" y="5070600"/>
            <a:ext cx="439272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Type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２、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Type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４による初期化が可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5718240"/>
            <a:ext cx="439272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ingleton 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あれば終了化メソッドも可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ooManyRegis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296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TooManyRegistrationRuntimeExce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同インターフェイスを実装の複数コンポーネン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同じ名前で登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コンポーネント取得時に例外発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解決には名前空間を利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95280" y="3068640"/>
            <a:ext cx="8210520" cy="151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    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componen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007f00"/>
                </a:solidFill>
                <a:latin typeface="Tahoma"/>
                <a:ea typeface="ＭＳ ゴシック"/>
              </a:rPr>
              <a:t>class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=</a:t>
            </a:r>
            <a:r>
              <a:rPr b="1" lang="ja-JP" sz="1600" spc="-1" strike="noStrike">
                <a:solidFill>
                  <a:srgbClr val="0000ff"/>
                </a:solidFill>
                <a:latin typeface="Tahoma"/>
                <a:ea typeface="ＭＳ ゴシック"/>
              </a:rPr>
              <a:t>"tutorial.org.seasar.console.HelloCar"</a:t>
            </a:r>
            <a:r>
              <a:rPr b="1" lang="ja-JP" sz="1600" spc="-1" strike="noStrike">
                <a:solidFill>
                  <a:srgbClr val="7f007f"/>
                </a:solidFill>
                <a:latin typeface="Tahoma"/>
                <a:ea typeface="ＭＳ ゴシック"/>
              </a:rPr>
              <a:t>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&lt;componen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ja-JP" sz="1600" spc="-1" strike="noStrike">
                <a:solidFill>
                  <a:srgbClr val="007f00"/>
                </a:solidFill>
                <a:latin typeface="Tahoma"/>
              </a:rPr>
              <a:t>class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1" lang="ja-JP" sz="1600" spc="-1" strike="noStrike">
                <a:solidFill>
                  <a:srgbClr val="0000ff"/>
                </a:solidFill>
                <a:latin typeface="Tahoma"/>
              </a:rPr>
              <a:t>"tutorial.org.seasar.console.GoodbyCar"</a:t>
            </a:r>
            <a:r>
              <a:rPr b="1" lang="ja-JP" sz="1600" spc="-1" strike="noStrike">
                <a:solidFill>
                  <a:srgbClr val="7f007f"/>
                </a:solidFill>
                <a:latin typeface="Tahoma"/>
              </a:rPr>
              <a:t>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95280" y="4869000"/>
            <a:ext cx="8210520" cy="151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    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componen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ＭＳ ゴシック"/>
              </a:rPr>
              <a:t>name=</a:t>
            </a:r>
            <a:r>
              <a:rPr b="1" lang="ja-JP" sz="1600" spc="-1" strike="noStrike">
                <a:solidFill>
                  <a:srgbClr val="0000ff"/>
                </a:solidFill>
                <a:latin typeface="Tahoma"/>
                <a:ea typeface="ＭＳ ゴシック"/>
              </a:rPr>
              <a:t>“hello”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lass="tutorial.org.seasar.console.HelloCar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&lt;componen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ja-JP" sz="1600" spc="-1" strike="noStrike">
                <a:solidFill>
                  <a:srgbClr val="009900"/>
                </a:solidFill>
                <a:latin typeface="Tahoma"/>
              </a:rPr>
              <a:t>name=</a:t>
            </a:r>
            <a:r>
              <a:rPr b="1" lang="ja-JP" sz="1600" spc="-1" strike="noStrike">
                <a:solidFill>
                  <a:srgbClr val="0000ff"/>
                </a:solidFill>
                <a:latin typeface="Tahoma"/>
              </a:rPr>
              <a:t>“hello”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class="tutorial.org.seasar.console.Another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524720" y="3500280"/>
            <a:ext cx="1440000" cy="52020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どちらも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ar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実装していて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524720" y="5229360"/>
            <a:ext cx="1440000" cy="52020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同じ名前で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2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つ登録していて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ンポーネント名前空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アプリケーションが大きくなったと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肥大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ポーネントの名前が衝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TooManyRegistrationRuntimeExce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分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include&gt;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エレメントによる設定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分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components&gt;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エレメント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namespac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属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ごとにコンポーネント名前空間を設定可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名前空間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]:[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ポーネント名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と、コロンで接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ユースケース毎の分割を想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324000" y="2060640"/>
            <a:ext cx="8424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include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path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tutorial/org/seasar/console/car.xml"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include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path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tutorial/org/seasar/console/other.xml"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名前空間を利用した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195640" y="1197000"/>
            <a:ext cx="662436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1 = (Car)container.getComponent(</a:t>
            </a:r>
            <a:r>
              <a:rPr b="1" lang="ja-JP" sz="1800" spc="-1" strike="noStrike">
                <a:solidFill>
                  <a:srgbClr val="2a00ff"/>
                </a:solidFill>
                <a:latin typeface="ＭＳ ゴシック"/>
                <a:ea typeface="ＭＳ ゴシック"/>
              </a:rPr>
              <a:t>"car:paintedCar"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2 = (Car)container.getComponent(</a:t>
            </a:r>
            <a:r>
              <a:rPr b="1" lang="ja-JP" sz="1800" spc="-1" strike="noStrike">
                <a:solidFill>
                  <a:srgbClr val="2a00ff"/>
                </a:solidFill>
                <a:latin typeface="ＭＳ ゴシック"/>
                <a:ea typeface="ＭＳ ゴシック"/>
              </a:rPr>
              <a:t>"other:paintedCar"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24000" y="3429000"/>
            <a:ext cx="842472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spac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ca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paintedCar“ class="tutorial.org.seasar.console.Painted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property name="bodyColor"&gt;'red'&lt;/property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24000" y="5084640"/>
            <a:ext cx="8424720" cy="158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spac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“othe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paintedCar“ class="tutorial.org.seasar.console.Painted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property name="bodyColor"&gt;'yellow'&lt;/property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03640" y="4941720"/>
            <a:ext cx="223380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別の名前空間を指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932360" y="3141720"/>
            <a:ext cx="3960720" cy="5806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Include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ユースケース毎に分割され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設定をマージす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95280" y="836640"/>
            <a:ext cx="4032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名前空間を指定してコンポーネント取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sar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リソー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http://www.seasar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2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マニュア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2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チュートリア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リン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ourceforge.j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-user 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はてなダイアリ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類似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pring Fra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Expert One-onOne J2EE Design and Developmen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」（邦題：実践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システムデザイン）著者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Rod Jhons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よ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JBossA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Bos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次期バージョン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4.0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ベースとなってい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HiveM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apestry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作者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Howard Lewis Ship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よ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akarta Common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サブプロジェク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PicoCont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Contai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Contai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asar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の中心であるコンテ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ブートストラップを別途必要とす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既存フレームワーク等に組み込みで使うことを想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コンポーネント登録・設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va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コードによる登録・設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sar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I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によ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ユーザーも直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アプリケーションによる登録・設定可能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による登録・設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ovy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による登録・設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クライアントへのコンポーネント提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現在は同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M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上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/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形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別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M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でのサービスは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2Remoting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を通して行う予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ンポーネン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3640" y="1197000"/>
            <a:ext cx="858996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コンポーネン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JO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e Old Java Objec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「平凡な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ava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オブジェクト」の意味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や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ache Avalon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のように、コンテナに載せるために特別なインターフェイスを実装する必要なし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インターフェイ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クライアントがコンポーネント取得する際に、コンポーネントが実装するインターフェイスをキーとしてコンテナ上を検索す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公開するメソッドは、インターフェイスで定義する。クライアントはインターフェイスを介してメソッド呼び出しを行う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しかし、強制ではない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コンストラク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デフォルトコンストラクタがなくても良い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のコンストラクタがなくても、インスタンス生成さえできれば良い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プロパテ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avaBeans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仕様のプロパティでステート管理を行うと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2Container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の便利な機能が利用でき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しかし、強制ではない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873760"/>
            <a:ext cx="8642160" cy="3988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ＭＳ ゴシック"/>
              </a:rPr>
              <a:t>何らかの手段でインスタンス生成できれば、どんな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ＭＳ ゴシック"/>
              </a:rPr>
              <a:t>Java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クラスでも良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ンポーネント取得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92360" y="1484280"/>
            <a:ext cx="7272360" cy="20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Highway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rivate static String PATH = "tutorial/org/seasar/console/car.xml"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static void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main(String[] args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2Container container = S2ContainerFactory.create(PATH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 car = (Car)container.getComponent(Car.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clas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.ru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692360" y="5373720"/>
            <a:ext cx="4895640" cy="12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clas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HelloCar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mplement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Car</a:t>
            </a: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void run(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ystem.out.println("My first car!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692360" y="3932280"/>
            <a:ext cx="7272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tutorial.org.seasar.console.HelloCa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4365360" y="4724280"/>
            <a:ext cx="406440" cy="649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6300720" y="2924280"/>
            <a:ext cx="822240" cy="1368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11280" y="1197000"/>
            <a:ext cx="6985080" cy="307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インターフェイス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ar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参照のみで、コンポーネントの実際の型に縛られていない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148360" y="3357720"/>
            <a:ext cx="3313080" cy="307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ar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実装するコンポーネントを検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0920" y="5805360"/>
            <a:ext cx="1296720" cy="307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OJO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あ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98" idx="1"/>
            <a:endCxn id="100" idx="1"/>
          </p:cNvCxnSpPr>
          <p:nvPr/>
        </p:nvCxnSpPr>
        <p:spPr>
          <a:xfrm flipH="1" flipV="1" rot="10800000">
            <a:off x="1692000" y="2528640"/>
            <a:ext cx="2160" cy="1945440"/>
          </a:xfrm>
          <a:prstGeom prst="bentConnector3">
            <a:avLst>
              <a:gd name="adj1" fmla="val -144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250920" y="3645000"/>
            <a:ext cx="1296720" cy="307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設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443640" y="5533920"/>
            <a:ext cx="1441440" cy="307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ar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実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名前による検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979640" y="1916280"/>
            <a:ext cx="6769080" cy="20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Highway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rivate static String PATH = "tutorial/org/seasar/console/car.xml"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static void main(String[] args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2Container container = S2ContainerFactory.create(PATH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 car = (Car)container.getComponent(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“hello”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.ru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08000" y="4795920"/>
            <a:ext cx="6769440" cy="165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9999"/>
                </a:solidFill>
                <a:latin typeface="ＭＳ ゴシック"/>
                <a:ea typeface="ＭＳ ゴシック"/>
              </a:rPr>
              <a:t>name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“hello”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lass="tutorial.org.seasar.console.HelloCar"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5076720" y="3355920"/>
            <a:ext cx="2046240" cy="201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0" y="4221000"/>
            <a:ext cx="2449440" cy="307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コンポーネント名で検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00000" y="1125360"/>
            <a:ext cx="7272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クラスキャストの際の例外の危険があるために、基本的にはインターフェイス型で取得するほうが推奨される。しかし、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既存の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オブジェクトがインターフェイスを実装していない場合に、特に有効であ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ンポーネント初期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コンポーネントの初期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ンポーネント設定に従い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Container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が行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プロパティによる初期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コンストラクタ引数による初期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メソッド呼び出しによる初期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asar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オリジナ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124000" y="1268280"/>
            <a:ext cx="6797880" cy="309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PaintedCar implements Car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String color = </a:t>
            </a:r>
            <a:r>
              <a:rPr b="1" lang="ja-JP" sz="1800" spc="-1" strike="noStrike">
                <a:solidFill>
                  <a:srgbClr val="2a00ff"/>
                </a:solidFill>
                <a:latin typeface="ＭＳ ゴシック"/>
                <a:ea typeface="ＭＳ ゴシック"/>
              </a:rPr>
              <a:t>"blue"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void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setBodyColor(String color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i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color = colo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void run(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ystem.out.println("My body color is " + color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124000" y="4581360"/>
            <a:ext cx="6769080" cy="165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class="tutorial.org.seasar.console.Painted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property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bodyColo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'red'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propert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"/>
          <p:cNvCxnSpPr>
            <a:stCxn id="119" idx="1"/>
            <a:endCxn id="118" idx="1"/>
          </p:cNvCxnSpPr>
          <p:nvPr/>
        </p:nvCxnSpPr>
        <p:spPr>
          <a:xfrm flipH="1" rot="10800000">
            <a:off x="2122920" y="2817000"/>
            <a:ext cx="2520" cy="2592720"/>
          </a:xfrm>
          <a:prstGeom prst="bentConnector3">
            <a:avLst>
              <a:gd name="adj1" fmla="val -492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250920" y="3500280"/>
            <a:ext cx="1728720" cy="5806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記述されたプロパティ値が設定され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763640" y="1052640"/>
            <a:ext cx="5472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コンポーネント生成時に、プロパティが設定されてい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859280" y="5950080"/>
            <a:ext cx="3816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el: 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文字列はシングルクォートで囲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Masataka Kurihara</cp:lastModifiedBy>
  <dcterms:modified xsi:type="dcterms:W3CDTF">2004-04-12T06:35:14Z</dcterms:modified>
  <cp:revision>90</cp:revision>
  <dc:subject/>
  <dc:title>スライド 1</dc:title>
</cp:coreProperties>
</file>