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E472-FD3E-4FA3-89AB-178FD61CF4D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4873-793E-4917-92FC-D67165C444B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508640"/>
            <a:ext cx="7604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Interceptor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997360"/>
            <a:ext cx="7605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Intercepto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ethodIntercep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MethodInvocation invocation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3789360"/>
            <a:ext cx="51642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vocation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りかく易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にどん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e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適用されるのかが明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キーとなる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intcut &amp; MethodInter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g.aopalliance.intercept.MethodIntercepto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terceptor#invoke(MethodInvocation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ソッドの引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標準化のためのプロジェ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イトコードエンジニアリングのための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ディでコンポーネント名もしくは子要素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指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対象にな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を指定しない場合は、コンポーネントが実装しているインターフェースのすべてのメソッドが対象にな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sample/org/seasar/shellscript/sampl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子要素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タグ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75801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565360"/>
            <a:ext cx="736920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MethodIntercep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MethodInvocation invocation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invocation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88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056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最後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を実行した後にコンポーネント自身のメソッドが呼び出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の逆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.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5734080"/>
            <a:ext cx="49388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06T11:58:54Z</dcterms:modified>
  <cp:revision>52</cp:revision>
  <dc:subject/>
  <dc:title>スライド 1</dc:title>
</cp:coreProperties>
</file>