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7621588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5C0C-CD80-4ECA-9349-5319A099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DC8-0D33-4EC3-9B70-DED71777D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D09A-FE41-43F9-927F-511A8FC0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165060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3441960"/>
            <a:ext cx="208512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52C2-4129-4C4D-A84D-23A106FB0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F8DC-9C4D-4B25-BF84-A6164944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D5C0-EEE1-4D80-A298-F46FC99A8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F95E-3FA3-46D6-B4AE-F1762A45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CDF8-A12C-4D0F-8986-E17A867F8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507960"/>
            <a:ext cx="647676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E969-8F35-4E49-B781-0B102A10A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8D79-B395-4790-9E74-01255088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344196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D4F3-70E8-4149-A7AA-BD6E29CC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1650600"/>
            <a:ext cx="316044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3441960"/>
            <a:ext cx="6476760" cy="1635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3AA6-7AB0-4D14-8499-74155C9B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507960"/>
            <a:ext cx="6476760" cy="9525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1650600"/>
            <a:ext cx="6476760" cy="34290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 fontScale="98000"/>
          </a:bodyPr>
          <a:p>
            <a:pPr marL="285840" indent="-28584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3796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95796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•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342440" indent="-191520"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4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5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6" marL="1725120" indent="-191160"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320" y="5207040"/>
            <a:ext cx="158724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3160" y="5207040"/>
            <a:ext cx="241308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840" y="5207040"/>
            <a:ext cx="1587600" cy="3808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Autofit/>
          </a:bodyPr>
          <a:lstStyle>
            <a:lvl1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fld id="{307E5E79-4F66-45EA-B812-BD5B21C8533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4160" y="1416960"/>
            <a:ext cx="827640" cy="3385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2.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nalyz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FI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MPBU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ONTEX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ENT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D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ERROR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NMATCH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nuVersion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FDEF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O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NORMAL.C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DE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YSTEM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UTIL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XMALLOC.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442160" y="3782160"/>
            <a:ext cx="906840" cy="932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ult li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Context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76360" y="1707840"/>
            <a:ext cx="841320" cy="50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120" rIns="78120" tIns="39240" bIns="3924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Do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MergeDoc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21920" y="3912840"/>
            <a:ext cx="974880" cy="1070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rapper supp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(Dirdoc only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rSca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Thread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45960" y="1188720"/>
            <a:ext cx="1213920" cy="781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 wrapp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agDIFFSETTING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= diffutils option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iffWrapp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02920" y="493920"/>
            <a:ext cx="991440" cy="64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enerate pa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(through menu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tchToo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978640" y="1983600"/>
            <a:ext cx="1348200" cy="1741320"/>
          </a:xfrm>
          <a:prstGeom prst="rect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buff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in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crystal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(not used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hcondlg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s2c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ncoding needs file filt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patter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683440" y="1257480"/>
            <a:ext cx="592200" cy="49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files loa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6080" y="2978280"/>
            <a:ext cx="738360" cy="47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WinMer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4" idx="1"/>
          </p:cNvCxnSpPr>
          <p:nvPr/>
        </p:nvCxnSpPr>
        <p:spPr>
          <a:xfrm>
            <a:off x="2349000" y="4248000"/>
            <a:ext cx="2573280" cy="200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1" name=""/>
          <p:cNvCxnSpPr>
            <a:stCxn id="44" idx="3"/>
            <a:endCxn id="41" idx="1"/>
          </p:cNvCxnSpPr>
          <p:nvPr/>
        </p:nvCxnSpPr>
        <p:spPr>
          <a:xfrm flipV="1">
            <a:off x="5896800" y="3109680"/>
            <a:ext cx="477720" cy="1338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2" name=""/>
          <p:cNvCxnSpPr>
            <a:stCxn id="45" idx="3"/>
            <a:endCxn id="41" idx="1"/>
          </p:cNvCxnSpPr>
          <p:nvPr/>
        </p:nvCxnSpPr>
        <p:spPr>
          <a:xfrm>
            <a:off x="6059880" y="1579320"/>
            <a:ext cx="314640" cy="1530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3" name=""/>
          <p:cNvCxnSpPr>
            <a:stCxn id="54" idx="3"/>
            <a:endCxn id="47" idx="1"/>
          </p:cNvCxnSpPr>
          <p:nvPr/>
        </p:nvCxnSpPr>
        <p:spPr>
          <a:xfrm flipV="1">
            <a:off x="2463840" y="2854080"/>
            <a:ext cx="5151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55" name=""/>
          <p:cNvCxnSpPr>
            <a:stCxn id="49" idx="3"/>
            <a:endCxn id="43" idx="1"/>
          </p:cNvCxnSpPr>
          <p:nvPr/>
        </p:nvCxnSpPr>
        <p:spPr>
          <a:xfrm flipV="1">
            <a:off x="964440" y="1960560"/>
            <a:ext cx="512280" cy="1256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6" name=""/>
          <p:cNvCxnSpPr>
            <a:stCxn id="49" idx="3"/>
            <a:endCxn id="42" idx="1"/>
          </p:cNvCxnSpPr>
          <p:nvPr/>
        </p:nvCxnSpPr>
        <p:spPr>
          <a:xfrm>
            <a:off x="964440" y="3216240"/>
            <a:ext cx="478080" cy="103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7" name=""/>
          <p:cNvCxnSpPr>
            <a:stCxn id="46" idx="3"/>
            <a:endCxn id="45" idx="1"/>
          </p:cNvCxnSpPr>
          <p:nvPr/>
        </p:nvCxnSpPr>
        <p:spPr>
          <a:xfrm>
            <a:off x="2394360" y="815760"/>
            <a:ext cx="2451960" cy="763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58" name=""/>
          <p:cNvCxnSpPr>
            <a:stCxn id="43" idx="3"/>
            <a:endCxn id="45" idx="1"/>
          </p:cNvCxnSpPr>
          <p:nvPr/>
        </p:nvCxnSpPr>
        <p:spPr>
          <a:xfrm flipV="1">
            <a:off x="2317680" y="1579320"/>
            <a:ext cx="252864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54" name=""/>
          <p:cNvSpPr/>
          <p:nvPr/>
        </p:nvSpPr>
        <p:spPr>
          <a:xfrm>
            <a:off x="1330560" y="2610000"/>
            <a:ext cx="1133280" cy="49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buff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GhostTextBuff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48" idx="1"/>
          </p:cNvCxnSpPr>
          <p:nvPr/>
        </p:nvCxnSpPr>
        <p:spPr>
          <a:xfrm flipV="1">
            <a:off x="2317680" y="1503360"/>
            <a:ext cx="36612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0" name=""/>
          <p:cNvCxnSpPr>
            <a:stCxn id="43" idx="2"/>
            <a:endCxn id="54" idx="0"/>
          </p:cNvCxnSpPr>
          <p:nvPr/>
        </p:nvCxnSpPr>
        <p:spPr>
          <a:xfrm>
            <a:off x="1896840" y="2213280"/>
            <a:ext cx="7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1" name=""/>
          <p:cNvCxnSpPr>
            <a:endCxn id="45" idx="2"/>
          </p:cNvCxnSpPr>
          <p:nvPr/>
        </p:nvCxnSpPr>
        <p:spPr>
          <a:xfrm flipV="1">
            <a:off x="4647960" y="1969920"/>
            <a:ext cx="805320" cy="199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2" name=""/>
          <p:cNvCxnSpPr>
            <a:stCxn id="42" idx="3"/>
          </p:cNvCxnSpPr>
          <p:nvPr/>
        </p:nvCxnSpPr>
        <p:spPr>
          <a:xfrm flipV="1">
            <a:off x="2349000" y="3961800"/>
            <a:ext cx="2299680" cy="286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85840" y="304560"/>
            <a:ext cx="2629080" cy="4698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Docs &amp; Buff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30680" y="2455560"/>
            <a:ext cx="802440" cy="1114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ain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ain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.r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sourc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117440" y="3988800"/>
            <a:ext cx="1070640" cy="8409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r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Fram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r with stop butt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mpState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53760" y="4110480"/>
            <a:ext cx="816120" cy="59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Actio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Outpu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629800" y="3569400"/>
            <a:ext cx="1311480" cy="16776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One vie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istv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Handl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ViewColItem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ortHeaderCtr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 display localized string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calit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64" idx="3"/>
            <a:endCxn id="65" idx="1"/>
          </p:cNvCxnSpPr>
          <p:nvPr/>
        </p:nvCxnSpPr>
        <p:spPr>
          <a:xfrm>
            <a:off x="939600" y="3013200"/>
            <a:ext cx="178200" cy="1397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69" name=""/>
          <p:cNvCxnSpPr>
            <a:stCxn id="65" idx="3"/>
            <a:endCxn id="67" idx="1"/>
          </p:cNvCxnSpPr>
          <p:nvPr/>
        </p:nvCxnSpPr>
        <p:spPr>
          <a:xfrm flipV="1">
            <a:off x="2187720" y="4408200"/>
            <a:ext cx="44352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0" name=""/>
          <p:cNvCxnSpPr>
            <a:stCxn id="65" idx="3"/>
            <a:endCxn id="71" idx="1"/>
          </p:cNvCxnSpPr>
          <p:nvPr/>
        </p:nvCxnSpPr>
        <p:spPr>
          <a:xfrm flipV="1">
            <a:off x="2187360" y="2936520"/>
            <a:ext cx="549720" cy="1473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2" name=""/>
          <p:cNvCxnSpPr>
            <a:stCxn id="67" idx="3"/>
            <a:endCxn id="66" idx="1"/>
          </p:cNvCxnSpPr>
          <p:nvPr/>
        </p:nvCxnSpPr>
        <p:spPr>
          <a:xfrm>
            <a:off x="3940200" y="4408560"/>
            <a:ext cx="2107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1" name=""/>
          <p:cNvSpPr/>
          <p:nvPr/>
        </p:nvSpPr>
        <p:spPr>
          <a:xfrm>
            <a:off x="2740680" y="2584800"/>
            <a:ext cx="109044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Header bar (paths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orFilepath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pathEdi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179000" y="721800"/>
            <a:ext cx="947160" cy="1571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MergeFram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hildF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Statu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itterWnd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View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izecbar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60480" y="679680"/>
            <a:ext cx="1044720" cy="70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splitter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cpp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host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3280" y="1704600"/>
            <a:ext cx="1239840" cy="460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Two detail view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rgeDiffDetail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3" idx="3"/>
            <a:endCxn id="75" idx="1"/>
          </p:cNvCxnSpPr>
          <p:nvPr/>
        </p:nvCxnSpPr>
        <p:spPr>
          <a:xfrm>
            <a:off x="2125440" y="1508040"/>
            <a:ext cx="5403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77" name=""/>
          <p:cNvCxnSpPr>
            <a:stCxn id="73" idx="3"/>
            <a:endCxn id="74" idx="1"/>
          </p:cNvCxnSpPr>
          <p:nvPr/>
        </p:nvCxnSpPr>
        <p:spPr>
          <a:xfrm flipV="1">
            <a:off x="2125800" y="1031040"/>
            <a:ext cx="630720" cy="477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sp>
        <p:nvSpPr>
          <p:cNvPr id="78" name=""/>
          <p:cNvSpPr/>
          <p:nvPr/>
        </p:nvSpPr>
        <p:spPr>
          <a:xfrm>
            <a:off x="4483080" y="250920"/>
            <a:ext cx="1061640" cy="2544480"/>
          </a:xfrm>
          <a:prstGeom prst="rect">
            <a:avLst/>
          </a:prstGeom>
          <a:solidFill>
            <a:srgbClr val="cccc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yntax colored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ystaleditview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Editable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edi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asic view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2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rystaltextview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cm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 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ource for registr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re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810760" y="737640"/>
            <a:ext cx="1264320" cy="15710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serA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dialogs search repla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findtext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editreplace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emcombo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needs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64" idx="3"/>
            <a:endCxn id="73" idx="1"/>
          </p:cNvCxnSpPr>
          <p:nvPr/>
        </p:nvCxnSpPr>
        <p:spPr>
          <a:xfrm flipV="1">
            <a:off x="939600" y="1507320"/>
            <a:ext cx="240120" cy="150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1" name=""/>
          <p:cNvCxnSpPr>
            <a:stCxn id="73" idx="3"/>
            <a:endCxn id="71" idx="1"/>
          </p:cNvCxnSpPr>
          <p:nvPr/>
        </p:nvCxnSpPr>
        <p:spPr>
          <a:xfrm>
            <a:off x="2125440" y="1507680"/>
            <a:ext cx="61164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diamond" w="med"/>
          </a:ln>
        </p:spPr>
      </p:cxnSp>
      <p:cxnSp>
        <p:nvCxnSpPr>
          <p:cNvPr id="82" name=""/>
          <p:cNvCxnSpPr>
            <a:stCxn id="74" idx="3"/>
            <a:endCxn id="78" idx="1"/>
          </p:cNvCxnSpPr>
          <p:nvPr/>
        </p:nvCxnSpPr>
        <p:spPr>
          <a:xfrm>
            <a:off x="3809520" y="1031400"/>
            <a:ext cx="654840" cy="492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3" name=""/>
          <p:cNvCxnSpPr>
            <a:stCxn id="75" idx="3"/>
            <a:endCxn id="78" idx="1"/>
          </p:cNvCxnSpPr>
          <p:nvPr/>
        </p:nvCxnSpPr>
        <p:spPr>
          <a:xfrm flipV="1">
            <a:off x="3900240" y="1523520"/>
            <a:ext cx="564120" cy="411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sm"/>
          </a:ln>
        </p:spPr>
      </p:cxnSp>
      <p:cxnSp>
        <p:nvCxnSpPr>
          <p:cNvPr id="84" name=""/>
          <p:cNvCxnSpPr>
            <a:stCxn id="78" idx="3"/>
            <a:endCxn id="79" idx="1"/>
          </p:cNvCxnSpPr>
          <p:nvPr/>
        </p:nvCxnSpPr>
        <p:spPr>
          <a:xfrm>
            <a:off x="5563800" y="1523520"/>
            <a:ext cx="227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1943280" cy="47016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Frames &amp; View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51440" y="765720"/>
            <a:ext cx="1296360" cy="3935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syntax par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parser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rystaltextblock.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parser languag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te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si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batc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a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ortra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h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ython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exx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rsrc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g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h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iod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sq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java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lisp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htm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cplusplu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dc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ascal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is.c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562720" y="228600"/>
            <a:ext cx="0" cy="527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51960" y="304560"/>
            <a:ext cx="880200" cy="30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Not U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879160" y="2379960"/>
            <a:ext cx="1422720" cy="2696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global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rysEdit as d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tlib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status ba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ba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lash scree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plash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Editlib view func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spell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ispelld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oto lin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oto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toggle header (??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in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u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626520" y="928800"/>
            <a:ext cx="691200" cy="120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Diffuti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ALLOCA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ffmain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1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GETO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DIFF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CK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2400" y="920160"/>
            <a:ext cx="662400" cy="81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Edi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text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2600" y="767520"/>
            <a:ext cx="119412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unicode conver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Utf8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unicod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48320" y="3435840"/>
            <a:ext cx="921240" cy="132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lugi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Transform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lugins lowlev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lugin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prox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wdisp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9560" y="3435120"/>
            <a:ext cx="784080" cy="10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Versio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uto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sapi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ssPromp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CPromp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97320" y="771480"/>
            <a:ext cx="98856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option dialo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Synta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V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Color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Filt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General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ropRegistr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lorButt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irColsDl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anguageSelec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3800" y="1613160"/>
            <a:ext cx="1418040" cy="385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LogFil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nfigLog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LogFile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NU coretoo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yp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oretool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et file vers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version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istry acces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Key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gular expression &amp; Filt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p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FilterMg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REGE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Path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path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heck loaded dll for expor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dllver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Files mappin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file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69400" y="771480"/>
            <a:ext cx="1280880" cy="2422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040" rIns="77040" tIns="39960" bIns="39960" anchor="ctr">
            <a:spAutoFit/>
          </a:bodyPr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G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Internet link in about box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tatLink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Resizable dialog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MoveConstraint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CSubclass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menu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BCMenu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Custom wait curso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WaitStatusCursor.h</a:t>
            </a: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GUI oth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multimon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Times New Roman"/>
              </a:rPr>
              <a:t>SuperComboBox.c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95280" y="304920"/>
            <a:ext cx="2286000" cy="31752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 algn="ctr">
              <a:buNone/>
              <a:tabLst>
                <a:tab algn="l" pos="0"/>
                <a:tab algn="l" pos="782640"/>
                <a:tab algn="l" pos="1565280"/>
                <a:tab algn="l" pos="2347920"/>
                <a:tab algn="l" pos="3130560"/>
                <a:tab algn="l" pos="3913200"/>
                <a:tab algn="l" pos="4695840"/>
                <a:tab algn="l" pos="5478480"/>
                <a:tab algn="l" pos="6261120"/>
                <a:tab algn="l" pos="7043760"/>
                <a:tab algn="l" pos="7826400"/>
                <a:tab algn="l" pos="8609040"/>
                <a:tab algn="l" pos="9391680"/>
                <a:tab algn="l" pos="10174320"/>
                <a:tab algn="l" pos="1095696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Other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0T14:23:50Z</dcterms:created>
  <dc:creator>Laoran</dc:creator>
  <dc:description/>
  <dc:language>en-US</dc:language>
  <cp:lastModifiedBy>Christian Blackburn</cp:lastModifiedBy>
  <dcterms:modified xsi:type="dcterms:W3CDTF">2004-03-18T00:08:39Z</dcterms:modified>
  <cp:revision>30</cp:revision>
  <dc:subject/>
  <dc:title>Presentation of WinMerge fil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E:\programmation\WinMerge\WinMerge tilé\____documentation file WinMerge\slides graphic format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